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31380-2C20-4AB4-AF58-BB1B5CB0C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B91B8-6F5E-48F3-A475-3EE8A2DCC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366C0-0F4D-49FE-87C1-A91DE2E0B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6A5DD-7968-4F34-9A1D-2B6DEF235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1EFA5-8573-473E-9A8A-D1136D6DF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547D5-5FC0-4598-8BFF-240018B13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176F9-C34B-4BE0-82EE-A0B2DC071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3C1A7-E529-44B0-A285-7115DF1F7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C1A4E-E8AE-47CF-AC1F-191BDD0FF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ACD82-F718-4305-B958-D88EA38D2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BCD73-6AF0-4EE2-8FC8-45113CB7A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D0491-2056-434E-AC86-F16E4A017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5FF36-0672-4892-BCB7-84F12A5BA54E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295280" y="2437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Získavanie Ag (Au) pri výrobe olo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609480" y="2282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64960" indent="-26496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Ag</a:t>
            </a:r>
            <a:r>
              <a:rPr b="1" lang="sk-SK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cs-CZ" sz="2800" spc="-1" strike="noStrike">
                <a:solidFill>
                  <a:srgbClr val="0000ff"/>
                </a:solidFill>
                <a:latin typeface="Arial"/>
              </a:rPr>
              <a:t>(Au)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– strieb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400" spc="-1" strike="noStrike" u="sng">
                <a:solidFill>
                  <a:srgbClr val="ff0066"/>
                </a:solidFill>
                <a:uFillTx/>
                <a:latin typeface="Arial"/>
              </a:rPr>
              <a:t>I. </a:t>
            </a:r>
            <a:r>
              <a:rPr b="1" i="1" lang="en-US" sz="2400" spc="-1" strike="noStrike" u="sng">
                <a:solidFill>
                  <a:srgbClr val="ff0066"/>
                </a:solidFill>
                <a:uFillTx/>
                <a:latin typeface="Arial"/>
              </a:rPr>
              <a:t>Získavanie Ag z rúd a koncentrátov cca </a:t>
            </a:r>
            <a:r>
              <a:rPr b="1" i="1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2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lasické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algamácia, kupelácia, Pattinsonova metóda, Patera pro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úhovanie kyanidizačné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 (zo surovín Au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80000"/>
              </a:lnSpc>
              <a:spcBef>
                <a:spcPts val="601"/>
              </a:spcBef>
              <a:buClr>
                <a:srgbClr val="ff0066"/>
              </a:buClr>
              <a:buFont typeface="Arial"/>
              <a:buAutoNum type="roman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400" spc="-1" strike="noStrike" u="sng">
                <a:solidFill>
                  <a:srgbClr val="ff0066"/>
                </a:solidFill>
                <a:uFillTx/>
                <a:latin typeface="Arial"/>
              </a:rPr>
              <a:t> </a:t>
            </a:r>
            <a:r>
              <a:rPr b="1" i="1" lang="en-US" sz="2400" spc="-1" strike="noStrike" u="sng">
                <a:solidFill>
                  <a:srgbClr val="ff0066"/>
                </a:solidFill>
                <a:uFillTx/>
                <a:latin typeface="Arial"/>
              </a:rPr>
              <a:t>Získavanie Ag z medziproduktov pri výrobe NK a druhotných surovín cca </a:t>
            </a:r>
            <a:r>
              <a:rPr b="1" i="1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8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racovanie Ag peny z rafinácie P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racovanie anódových kalov z elektrolýzy Cu, N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racovanie odpadov (elektronický, fotografický, katalyzátory, ...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0" y="151920"/>
            <a:ext cx="9144000" cy="67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Hutníctvo P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b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galen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ff"/>
                </a:solidFill>
                <a:uFillTx/>
                <a:latin typeface="Arial"/>
              </a:rPr>
              <a:t>Rudy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0,14 – 15</a:t>
            </a: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% Pb        (Pb – Zn rudy, polymetalické – Cu,</a:t>
            </a: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d,</a:t>
            </a: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,</a:t>
            </a: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b,</a:t>
            </a: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n,</a:t>
            </a: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,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Au,</a:t>
            </a:r>
            <a:r>
              <a:rPr b="1" lang="sk-SK" sz="18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Ag</a:t>
            </a:r>
            <a:r>
              <a:rPr b="1" lang="sk-SK" sz="1800" spc="-1" strike="noStrike">
                <a:solidFill>
                  <a:srgbClr val="ff0066"/>
                </a:solidFill>
                <a:latin typeface="Arial"/>
              </a:rPr>
              <a:t>, Pt,...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 u="sng">
                <a:solidFill>
                  <a:srgbClr val="000000"/>
                </a:solidFill>
                <a:uFillTx/>
                <a:latin typeface="Arial"/>
              </a:rPr>
              <a:t>Koncentráty</a:t>
            </a:r>
            <a:r>
              <a:rPr b="1" lang="sk-SK" sz="1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 40 – 70 % P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0000"/>
                </a:solidFill>
                <a:latin typeface="Arial"/>
              </a:rPr>
              <a:t>Ttav. = 327,4 °C            Tvaru = 1725 °C         Tsubl. – nad 550 °C  (pary jedovaté!!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90 % – pyrometalurgicky ---  oxidačné aglomeračné praženie ---  redukčné taven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10 % – ISP pro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 u="sng">
                <a:solidFill>
                  <a:srgbClr val="0000ff"/>
                </a:solidFill>
                <a:uFillTx/>
                <a:latin typeface="Arial"/>
              </a:rPr>
              <a:t>Praženie</a:t>
            </a:r>
            <a:r>
              <a:rPr b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  (950 – 1 000 °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Cieľ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000000"/>
                </a:solidFill>
                <a:latin typeface="Arial"/>
              </a:rPr>
              <a:t>PbS + 3/2O</a:t>
            </a:r>
            <a:r>
              <a:rPr b="1" lang="sk-SK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sk-SK" sz="1200" spc="-1" strike="noStrike">
                <a:solidFill>
                  <a:srgbClr val="000000"/>
                </a:solidFill>
                <a:latin typeface="Arial"/>
              </a:rPr>
              <a:t> = PbO + SO</a:t>
            </a:r>
            <a:r>
              <a:rPr b="1" lang="sk-SK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aglomerácia – prídavok troskotvorných prísad – tvorba trosky s nízkou teplotou tavenia – natavenie časti Pb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Koncentrát 10 – 20 % S – aglomeračná zmes 8 –10 % S – aglomerát 2 % 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1000" spc="-1" strike="noStrike">
                <a:solidFill>
                  <a:srgbClr val="000000"/>
                </a:solidFill>
                <a:latin typeface="Arial"/>
              </a:rPr>
              <a:t>Produkt :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 aglomerát  40 – 50 % Pb, 2 % 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 u="sng">
                <a:solidFill>
                  <a:srgbClr val="0000ff"/>
                </a:solidFill>
                <a:uFillTx/>
                <a:latin typeface="Arial"/>
              </a:rPr>
              <a:t>Tavenie  </a:t>
            </a:r>
            <a:r>
              <a:rPr b="1" lang="sk-SK" sz="1800" spc="-1" strike="noStrike">
                <a:solidFill>
                  <a:srgbClr val="0000ff"/>
                </a:solidFill>
                <a:latin typeface="Arial"/>
              </a:rPr>
              <a:t>    (900 – 1000 </a:t>
            </a:r>
            <a:r>
              <a:rPr b="1" lang="sk-SK" sz="1800" spc="-1" strike="noStrike" baseline="30000">
                <a:solidFill>
                  <a:srgbClr val="0000ff"/>
                </a:solidFill>
                <a:latin typeface="Arial"/>
              </a:rPr>
              <a:t>o</a:t>
            </a:r>
            <a:r>
              <a:rPr b="1" lang="sk-SK" sz="1800" spc="-1" strike="noStrike">
                <a:solidFill>
                  <a:srgbClr val="0000ff"/>
                </a:solidFill>
                <a:latin typeface="Arial"/>
              </a:rPr>
              <a:t>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1400" spc="-1" strike="noStrike">
                <a:solidFill>
                  <a:srgbClr val="000000"/>
                </a:solidFill>
                <a:latin typeface="Arial"/>
              </a:rPr>
              <a:t>Vsádzka</a:t>
            </a: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 : aglomerát + troskotvorné prísady + koks + vratné materiály – trosky úlety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odpa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1400" spc="-1" strike="noStrike">
                <a:solidFill>
                  <a:srgbClr val="000000"/>
                </a:solidFill>
                <a:latin typeface="Arial"/>
              </a:rPr>
              <a:t>Cieľ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PbO + CO = Pb + CO</a:t>
            </a:r>
            <a:r>
              <a:rPr b="0" lang="sk-SK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1400" spc="-1" strike="noStrike">
                <a:solidFill>
                  <a:srgbClr val="0000ff"/>
                </a:solidFill>
                <a:latin typeface="Arial"/>
              </a:rPr>
              <a:t>Produkty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ff"/>
                </a:solidFill>
                <a:latin typeface="Arial"/>
              </a:rPr>
              <a:t>Surové Pb: 90 – 96 (99) % Pb</a:t>
            </a:r>
            <a:r>
              <a:rPr b="0" lang="sk-SK" sz="1400" spc="-1" strike="noStrike">
                <a:solidFill>
                  <a:srgbClr val="0000ff"/>
                </a:solidFill>
                <a:latin typeface="Arial"/>
              </a:rPr>
              <a:t> (Cu, Zn, Sb, As, Sn, Bi, </a:t>
            </a:r>
            <a:r>
              <a:rPr b="1" lang="sk-SK" sz="1800" spc="-1" strike="noStrike">
                <a:solidFill>
                  <a:srgbClr val="ff0066"/>
                </a:solidFill>
                <a:latin typeface="Arial"/>
              </a:rPr>
              <a:t>Ag, Au, Pt ..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 u="sng">
                <a:solidFill>
                  <a:srgbClr val="0000ff"/>
                </a:solidFill>
                <a:uFillTx/>
                <a:latin typeface="Arial"/>
              </a:rPr>
              <a:t>Rafiná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Cu – pomocou 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0066"/>
                </a:solidFill>
                <a:latin typeface="Arial"/>
              </a:rPr>
              <a:t>Au, Pt, Ag: prídavkom práškového Zn do taveniny </a:t>
            </a:r>
            <a:r>
              <a:rPr b="1" lang="sk-SK" sz="1800" spc="-1" strike="noStrike">
                <a:solidFill>
                  <a:srgbClr val="ff0066"/>
                </a:solidFill>
                <a:latin typeface="Arial"/>
                <a:ea typeface="Arial"/>
              </a:rPr>
              <a:t>→ </a:t>
            </a:r>
            <a:r>
              <a:rPr b="1" lang="sk-SK" sz="1800" spc="-1" strike="noStrike">
                <a:solidFill>
                  <a:srgbClr val="0000ff"/>
                </a:solidFill>
                <a:latin typeface="Arial"/>
                <a:ea typeface="Arial"/>
              </a:rPr>
              <a:t>zinková pena = medziproduk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Zn – prídavkom taveniny NaO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Sn, As, Sb –  oxidácia taveninou NaNO</a:t>
            </a:r>
            <a:r>
              <a:rPr b="0" lang="sk-SK" sz="1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 + NaOH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1400" spc="-1" strike="noStrike">
                <a:solidFill>
                  <a:srgbClr val="000000"/>
                </a:solidFill>
                <a:latin typeface="Arial"/>
              </a:rPr>
              <a:t>Produk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0000"/>
                </a:solidFill>
                <a:latin typeface="Arial"/>
              </a:rPr>
              <a:t>Rafinované Pb: 99 – 99,99 % P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51920" y="151920"/>
            <a:ext cx="893124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Parkesovanie</a:t>
            </a:r>
            <a:r>
              <a:rPr b="1" lang="sk-SK" sz="2800" spc="-1" strike="noStrike">
                <a:solidFill>
                  <a:srgbClr val="0000ff"/>
                </a:solidFill>
                <a:latin typeface="Arial"/>
              </a:rPr>
              <a:t> (Alexander Parkes, rok 185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ískavanie 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Ag 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K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ri rafinácii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rového Pb pomocou Z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vorba Ag (Au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, Pt,..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peny  na povrchu taveniny Pb v dôsledku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hraničenej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zájomnej rozpustnosti  Pb a Zn za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vysokýc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eplôt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úplnej nerozpustnost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Zn – Ag (Au) intermetalických zlúčenín v Pb za znížených teplôt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ízkych teplote tavenia P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g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n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Ttav   =  665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g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n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av =  636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AuZn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 AuZn,  Au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n,  Au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Opakovaným prídavkom zinku až 4 – krát </a:t>
            </a:r>
            <a:br>
              <a:rPr sz="2000"/>
            </a:b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a privedie takmer všetko Ag, Au, (KPS) do pen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0000"/>
                </a:solidFill>
                <a:latin typeface="Arial"/>
              </a:rPr>
              <a:t>Zlato a platina prechádzajú z olova do zinku prvé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, </a:t>
            </a:r>
            <a:br>
              <a:rPr sz="1800"/>
            </a:b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pred striebrom a tak je prvá vznikajúca pena zlatá (Pt kovy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Obrázok 2" descr=""/>
          <p:cNvPicPr/>
          <p:nvPr/>
        </p:nvPicPr>
        <p:blipFill>
          <a:blip r:embed="rId1"/>
          <a:srcRect l="2432" t="6524" r="2829" b="1345"/>
          <a:stretch/>
        </p:blipFill>
        <p:spPr>
          <a:xfrm>
            <a:off x="6781680" y="2819520"/>
            <a:ext cx="2149560" cy="26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8" name="Obrázok 4" descr=""/>
          <p:cNvPicPr/>
          <p:nvPr/>
        </p:nvPicPr>
        <p:blipFill>
          <a:blip r:embed="rId2"/>
          <a:stretch/>
        </p:blipFill>
        <p:spPr>
          <a:xfrm>
            <a:off x="176040" y="1692360"/>
            <a:ext cx="8831520" cy="34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pracovanie Ag pen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sovanie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– P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tilácia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– Z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upelác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b + 0,5 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= PbO   Ttav = 883</a:t>
            </a: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produkt: zliatina  60 – 70</a:t>
            </a:r>
            <a:r>
              <a:rPr b="1" lang="sk-SK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% Ag, Au</a:t>
            </a:r>
            <a:r>
              <a:rPr b="1" lang="sk-SK" sz="3200" spc="-1" strike="noStrike">
                <a:solidFill>
                  <a:srgbClr val="ff0000"/>
                </a:solidFill>
                <a:latin typeface="Arial"/>
              </a:rPr>
              <a:t> (KP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520" y="243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000000"/>
                </a:solidFill>
                <a:latin typeface="Arial"/>
              </a:rPr>
              <a:t>Ďakujem za pozornos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usan Orac</cp:lastModifiedBy>
  <dcterms:modified xsi:type="dcterms:W3CDTF">2021-10-20T05:59:52Z</dcterms:modified>
  <cp:revision>2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