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582-ED74-4FDC-958A-8CFA43D4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C21-FDC2-4BC8-9130-7BEABAD1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027-A45A-44B9-847A-B73DACE2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E12-9899-423E-B55C-A37273DC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FCE-1854-43F6-AEBB-3AA12B8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272-9803-4481-9FF9-BBDD5E6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81C-7AE7-493C-A286-1D432542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9A2-191A-4DF5-B423-032FCD3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1BC-BAFE-4A21-8003-57F35E1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7E3-C653-411C-BE1B-AE62DE6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432-6A39-4456-8B04-4695688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02E-CF84-49A4-B946-9E27156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93BD-40FF-4B03-A055-F2D7AA206B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Alternatívne technológ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úhovania zl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ázok 2" descr=""/>
          <p:cNvPicPr/>
          <p:nvPr/>
        </p:nvPicPr>
        <p:blipFill>
          <a:blip r:embed="rId1"/>
          <a:srcRect l="0" t="0" r="0" b="856"/>
          <a:stretch/>
        </p:blipFill>
        <p:spPr>
          <a:xfrm>
            <a:off x="38160" y="152280"/>
            <a:ext cx="454176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Obrázok 3" descr=""/>
          <p:cNvPicPr/>
          <p:nvPr/>
        </p:nvPicPr>
        <p:blipFill>
          <a:blip r:embed="rId2"/>
          <a:srcRect l="0" t="0" r="0" b="961"/>
          <a:stretch/>
        </p:blipFill>
        <p:spPr>
          <a:xfrm>
            <a:off x="4451400" y="3352680"/>
            <a:ext cx="465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3. Lúhovanie v roztoku tiosír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síran:</a:t>
            </a: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,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yslík – oxidačné čini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4Au + 8 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4 A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4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4 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k-SK" sz="2000" spc="-1" strike="noStrike">
                <a:solidFill>
                  <a:srgbClr val="ff0066"/>
                </a:solidFill>
                <a:latin typeface="Arial"/>
              </a:rPr>
              <a:t>Cu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+ 4 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u(S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lorid strieborný a sulfid strieborný sa ľahko lúhuje v tiosíranovom prostre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ff"/>
                </a:solidFill>
                <a:latin typeface="Arial"/>
              </a:rPr>
              <a:t>4. Lúhovanie halogeni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Zástupný objekt pre obsah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60" name="Obrázok 7" descr=""/>
          <p:cNvPicPr/>
          <p:nvPr/>
        </p:nvPicPr>
        <p:blipFill>
          <a:blip r:embed="rId2"/>
          <a:stretch/>
        </p:blipFill>
        <p:spPr>
          <a:xfrm>
            <a:off x="1371600" y="38624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Lúhova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ysl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oztoku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močovi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SC(NH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T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o vodných roztokoch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kysléh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kyanát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CN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roztokoch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alkalických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iosíranov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(S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Chloridačné: 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HCl, Cl</a:t>
            </a:r>
            <a:r>
              <a:rPr b="1" lang="sk-SK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, NaCl, Cu</a:t>
            </a:r>
            <a:r>
              <a:rPr b="1" lang="sk-SK" sz="24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ff"/>
                </a:solidFill>
                <a:latin typeface="Arial"/>
              </a:rPr>
              <a:t>, pH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Obrázok 3" descr=""/>
          <p:cNvPicPr/>
          <p:nvPr/>
        </p:nvPicPr>
        <p:blipFill>
          <a:blip r:embed="rId2"/>
          <a:stretch/>
        </p:blipFill>
        <p:spPr>
          <a:xfrm>
            <a:off x="228600" y="85680"/>
            <a:ext cx="8767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1. Lúhovanie v roztoku  tiomoč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iomočovina (TM):</a:t>
            </a:r>
            <a:r>
              <a:rPr b="0" lang="sk-SK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SC(NH</a:t>
            </a:r>
            <a:r>
              <a:rPr b="1" lang="sk-SK" sz="2000" spc="-1" strike="noStrike" u="sng" baseline="-25000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sk-SK" sz="20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r>
              <a:rPr b="1" lang="sk-SK" sz="2000" spc="-1" strike="noStrike" u="sng" baseline="-25000">
                <a:solidFill>
                  <a:srgbClr val="0000ff"/>
                </a:solidFill>
                <a:uFillTx/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ačné činidlo: F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Lúhovací roztok je tvoren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tiomočovina + kyselina + oxidačné čini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OZOR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ri lúhovaní v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tiomočovin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katiónový komplex !!!,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lúhovaní v </a:t>
            </a:r>
            <a:r>
              <a:rPr b="0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kyanidoch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zniká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aniónový k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2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+0,38 V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+ 3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g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+0,023 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xidačné čini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u +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g +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3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Ag [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bytočné ióny F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= [Fe(III)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49480" y="4309560"/>
            <a:ext cx="4232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asti stability v sys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Au-CS(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a TM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ktivita Au iónov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745880" y="4447440"/>
            <a:ext cx="4225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asti stability v sys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Ag-CS(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ita TM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ktivita Ag iónov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ok 5" descr=""/>
          <p:cNvPicPr/>
          <p:nvPr/>
        </p:nvPicPr>
        <p:blipFill>
          <a:blip r:embed="rId1"/>
          <a:stretch/>
        </p:blipFill>
        <p:spPr>
          <a:xfrm>
            <a:off x="266760" y="137160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50" name="Obrázok 6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Oxidácia tiomočoviny – roz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0000"/>
                </a:solidFill>
                <a:uFillTx/>
                <a:latin typeface="Arial"/>
              </a:rPr>
              <a:t>a) Prvý stupeň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oxidácie tiomočov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ratný proce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formamidin disulfid (F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° = +0,42 V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formamidin disulf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Oxidácia prítomnosťou oxidačných činid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0000"/>
                </a:solidFill>
                <a:latin typeface="Arial"/>
              </a:rPr>
              <a:t>FD – aktívny oxidant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 pre lúhovanie zlata a striebra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Au + 2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Au[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 Ag + 4 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= 2 Ag[SC(N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ff0000"/>
                </a:solidFill>
                <a:uFillTx/>
                <a:latin typeface="Arial"/>
              </a:rPr>
              <a:t>b) Druhý stupeň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evratný proce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roz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D sa rozkladá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TM, elementárna síra, kyanamid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[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 + S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NH)CSSC(NH)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SC(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S – zlúčen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lúčeniny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 [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yanamid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hnoj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žšia toxic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roti lúhovaniu v alkalických kyanid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nší dopad na životné prostredie – praktická neškodnosť produktov rozkladu TM (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yanam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môže byť použitý ako hnoj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Ľahšie narábanie s reagen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yššia sel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ýchlos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lúhovan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šľachtilých k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hodnosť použitia pre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ťažkospracovateľné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ulfidické zlatonosné r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spotreba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genci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2. Lúhovanie v roztoku tiokyan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tiokyanát (rodanid):</a:t>
            </a:r>
            <a:r>
              <a:rPr b="0" lang="sk-SK" sz="2400" spc="-1" strike="noStrike">
                <a:solidFill>
                  <a:srgbClr val="0000ff"/>
                </a:solidFill>
                <a:latin typeface="Arial"/>
              </a:rPr>
              <a:t> (SCN</a:t>
            </a:r>
            <a:r>
              <a:rPr b="0" lang="sk-SK" sz="24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0" i="1" lang="sk-SK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Zlato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lúhuje vo vodných roztokoch kyslého tiokyanátu (SCN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 a vytvára obidva komplexy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Au(I) a Au(III),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závislosti od potenciálu rozto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u + 2 S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u(S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;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+0,66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u + 4 S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Au(S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;  E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= +0,636 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Fe(III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najvhodnejším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oxidanto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Optimáln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medzi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je medzi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2,0 – 3,0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iebro vytvára pomerne nerozpustný produkt, strieborný tiokyanát a nie je možné ho získať týmto proce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Orac</cp:lastModifiedBy>
  <dcterms:modified xsi:type="dcterms:W3CDTF">2022-10-12T05:39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