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CB0-CE77-4E5F-85BE-3662D842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53C-5478-4E0F-83F1-4B73EBB1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B37-9AA9-4EDC-9CC0-D292FC50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BA8-E981-48E7-B6A5-BA5FE494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ECD-6F92-4797-864A-3B308DE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AF8-7181-4766-B2E7-FA2751A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CB5-CEF6-4212-8250-B39D4FD3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75D-6481-4B4B-ACAD-A38CE7C6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C49-402D-4A8C-B588-4FF6105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4E4-D83D-42CF-9432-9853DD1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88C-F8CF-4CDA-B243-62E51333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EBC-AE35-4A5C-BC06-B3F0865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8FE-5258-44AD-A2DA-8B9E27EE98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avenie a rafinácia Au,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C14"/>
          <p:cNvPicPr/>
          <p:nvPr/>
        </p:nvPicPr>
        <p:blipFill>
          <a:blip r:embed="rId1"/>
          <a:stretch/>
        </p:blipFill>
        <p:spPr>
          <a:xfrm>
            <a:off x="457200" y="1447920"/>
            <a:ext cx="2000160" cy="2981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11"/>
          <p:cNvPicPr/>
          <p:nvPr/>
        </p:nvPicPr>
        <p:blipFill>
          <a:blip r:embed="rId2"/>
          <a:stretch/>
        </p:blipFill>
        <p:spPr>
          <a:xfrm>
            <a:off x="6095880" y="4495680"/>
            <a:ext cx="2381400" cy="152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10"/>
          <p:cNvPicPr/>
          <p:nvPr/>
        </p:nvPicPr>
        <p:blipFill>
          <a:blip r:embed="rId3"/>
          <a:stretch/>
        </p:blipFill>
        <p:spPr>
          <a:xfrm>
            <a:off x="2743200" y="3581280"/>
            <a:ext cx="2895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108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4. Kyslé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hydrometalurgické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metódy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rafinácie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Au,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ívajú sa pre </a:t>
            </a:r>
            <a:r>
              <a:rPr b="1" lang="sk-SK" sz="2000" spc="-1" strike="noStrike">
                <a:solidFill>
                  <a:srgbClr val="cc0099"/>
                </a:solidFill>
                <a:latin typeface="Arial"/>
              </a:rPr>
              <a:t>spracovanie zliatin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UK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omocou rôznych kyselín, pričom sprievodné nečistoty a jeden z UK prechádzajú do roztoku 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druhý ostáva v nerozpustnom zby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333399"/>
                </a:solidFill>
                <a:uFillTx/>
                <a:latin typeface="Arial"/>
              </a:rPr>
              <a:t>4.1. Rafinácia s HNO</a:t>
            </a:r>
            <a:r>
              <a:rPr b="1" lang="sk-SK" sz="2000" spc="-1" strike="noStrike" u="sng" baseline="-25000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liatiny s obsahom  Ag  2x – 3x  vyšším ako 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úhovan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je založené na </a:t>
            </a:r>
            <a:r>
              <a:rPr b="1" lang="sk-SK" sz="2000" spc="-1" strike="noStrike">
                <a:solidFill>
                  <a:srgbClr val="0000ff"/>
                </a:solidFill>
                <a:latin typeface="Arial"/>
              </a:rPr>
              <a:t>selektívno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rozpúšťaní Ag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ričom </a:t>
            </a:r>
            <a:r>
              <a:rPr b="0" lang="sk-SK" sz="2000" spc="-1" strike="noStrike">
                <a:solidFill>
                  <a:srgbClr val="0000ff"/>
                </a:solidFill>
                <a:latin typeface="Arial"/>
              </a:rPr>
              <a:t>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ostáva  v </a:t>
            </a:r>
            <a:r>
              <a:rPr b="0" lang="sk-SK" sz="2000" spc="-1" strike="noStrike">
                <a:solidFill>
                  <a:srgbClr val="0000ff"/>
                </a:solidFill>
                <a:latin typeface="Arial"/>
              </a:rPr>
              <a:t>nerozpustno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bytku. Používa sa horúca kyselina. Do roztoku prechádzajú tiež Cu, Pb, Pt, P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, Bi a Sb je potrebné odstrániť pred lúhovaním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avení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s dusičnanom sódnym alebo kupeláci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333399"/>
                </a:solidFill>
                <a:latin typeface="Arial"/>
              </a:rPr>
              <a:t>Spracovanie rozto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lučovanie Ag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            Zrážanie vo forme chlori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dukcia chloridov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       Kovovým Fe alebo Z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šenie, tavenie, odlie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rozpustný zbytok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 Premývanie, sušenie, tavenie, odlieva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333399"/>
                </a:solidFill>
                <a:uFillTx/>
                <a:latin typeface="Arial"/>
              </a:rPr>
              <a:t>4.2 Rafinácia koncentrovanou H</a:t>
            </a:r>
            <a:r>
              <a:rPr b="1" lang="sk-SK" sz="1800" spc="-1" strike="noStrike" u="sng" baseline="-25000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sk-SK" sz="1800" spc="-1" strike="noStrike" u="sng">
                <a:solidFill>
                  <a:srgbClr val="333399"/>
                </a:solidFill>
                <a:uFillTx/>
                <a:latin typeface="Arial"/>
              </a:rPr>
              <a:t>SO</a:t>
            </a:r>
            <a:r>
              <a:rPr b="1" lang="sk-SK" sz="1800" spc="-1" strike="noStrike" u="sng" baseline="-25000">
                <a:solidFill>
                  <a:srgbClr val="333399"/>
                </a:solidFill>
                <a:uFillTx/>
                <a:latin typeface="Arial"/>
              </a:rPr>
              <a:t>4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Zliatiny s obsahom Ag 3x viac ako A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d  7,5% Cu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Lúhovanie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Lúhuje sa  za  tepla  granulovaná zliatina alebo vo forme tenkých plieškov. Zlato ostáva v nerozpustnom zbyt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 Ag + 2 H2SO4  =  Ag2SO4 + 2 H2O + S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u + 2 H2SO4   =  CuSO4 +  2 H2O + SO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Spracovanie roztok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ylučovanie A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           1. Cementáciou s Cu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. Kryštalizácia Ag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omalým ochladzova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dukcia Ag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    Redukcia s Fe po rozpustení v horúcej v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mývanie vodou, sušenie, tavenie a odlievanie ingo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odukt:  Ag  980 – 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rozpustný zbytok Au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    Premývanie, sušenie, pretavenie, odlievanie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odukt:  996 – 999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333399"/>
                </a:solidFill>
                <a:uFillTx/>
                <a:latin typeface="Arial"/>
              </a:rPr>
              <a:t>4.3 Rafinácia lúčavkou kráľovsko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 zliatiny s nízkym obsahom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úhovanie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Lúhuje sa za tepla granulovaná zliat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rechádz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o roztok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o forme chlorozlatitej kysel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ostáva v nerozpustnom  zbytku vo forme  Ag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333399"/>
                </a:solidFill>
                <a:latin typeface="Arial"/>
              </a:rPr>
              <a:t>Spracovanie výluh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lučovanie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    Roztok sa 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</a:rPr>
              <a:t>odparí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do sucha kvôli odstráneniu HNO3. Soli sa potom   rozpúšťajú vo vode a získaný roztok ide na redukc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dukcia solí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   Kyselinou šťavelovou  alebo železom  vyredukovanie 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emývanie, sušenie, tavenie,odlie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dukt:  998 – 999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Kyslé metódy rafinácie sú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ekonomicky  náročné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a nezískavajú sa kovy dostatočnej čistoty. Používajú sa obmedzene </a:t>
            </a:r>
            <a:r>
              <a:rPr b="1" lang="sk-SK" sz="2000" spc="-1" strike="noStrike">
                <a:solidFill>
                  <a:srgbClr val="cc0099"/>
                </a:solidFill>
                <a:latin typeface="Arial"/>
              </a:rPr>
              <a:t>najmä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na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predúpravu</a:t>
            </a:r>
            <a:r>
              <a:rPr b="0" lang="sk-SK" sz="2000" spc="-1" strike="noStrike">
                <a:solidFill>
                  <a:srgbClr val="cc0099"/>
                </a:solidFill>
                <a:latin typeface="Arial"/>
              </a:rPr>
              <a:t> zliatin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pred elektrolytickou</a:t>
            </a:r>
            <a:r>
              <a:rPr b="0" lang="sk-SK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rafináci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5. Elektrolytická rafin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5.1 Elektrolytická rafinácia z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lektrolyt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(70 – 200g/l Au) + HCl (40 – 100 g/l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oľná HCl zvyšuje elektrickú vodivosť elektrolytu, znižuje spotrebu elektrickej energie a pasiváciu zlata na anó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tóda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lektrolytické zlato  (hrúbky 0,1 – 0,25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nóda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urové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ímesy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g, Pt – kovy, 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sivácia anódy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g sa rozpúšťa a vytvára AgCl a môže zabrániť ďalšiemu rozpúšťaniu an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ívajú sa anódy s obsahom do 6 %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isociácia elektroly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iastočne: AuCl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4 Cl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nóda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  + 4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3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Au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andardné potenciály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hlóru a kyslík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ú nižšie ako u zlata, preto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chádza za normálnych podmienok elektrolýzy k ich vylučovaniu na anó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– 2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Cl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g)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° = +1,3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– 4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4 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g)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° = +1,2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t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Cl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3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&lt;=&gt; Au + 4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+0,99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hľadom na vysoký potenciál Au je vylučovanie vodíka na katóde prakticky vylúče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iebro sa ľahko oxiduje na anóde, tvorí nerozpustný Ag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g + Cl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– 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AgCl           E° = +0,2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urové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u s obsahom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 do 6 %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je možné elektrolyticky rafinovať za použitia konštantného prúdu. V tomto prípad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C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ľahko opadáv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anódového kalu a nevytvára súvislú vrstvu na povrchu anó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rímes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obsahu Cu v anódach nad 2 % sa po nahromadení v elektrolyt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ôže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lučovať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polu so zlato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j napriek tomu, že Cu má nižší potenciá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ustný obsah Cu v elektrolyte je 90 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l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púšťa sa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vé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anóde a prechádza do elektrolytu v koncentrácii, odpovedajúcej jeho rozpust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 nasýtení elektrolytu vytvára vrstvu PbCl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 povrchu anódy 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sivuj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ju tak ako AgC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nóda sa nepasivuje, ak súčet obsahu Ag a Pb neprevyšuje 13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ele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veľmi škodlivo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rímesou v 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elektroly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retož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redukuje 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 elektrolytu, ktoré vypadáva do anódového k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latina, palá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púšťajú sa na anóde, tvoria kyselinu chloroplatičitú a chlorid paladnat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nahromadení sa v elektrolyte sa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môžu vylučovať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 katóde spol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zlato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retože ich štandardné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potenciály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sú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blízk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l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ustná koncentrácia Pt v elektrolyte je 50 a Pd 15 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lektrolytické vane sú porcelánové alebo z vinilplas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ódy sú z elektrolytického zl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ane sú uložené vo vodnom kúpeli pre udržiavanie potrebnej teploty elektrolýzy. Elektrolyt sa premiešava zohriatym vzduchom, privedeným sklenenými trub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elektrolýze sa uvoľňuje chlór, preto sú vane uložené v diges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sk-SK" sz="2400" spc="-1" strike="noStrike">
                <a:solidFill>
                  <a:srgbClr val="000000"/>
                </a:solidFill>
                <a:latin typeface="Arial"/>
              </a:rPr>
              <a:t>Zlato sa vylučuje na katóde v hutnej, pevnej a lesklej  vrst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odmienky elektrolytickej rafinácie 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lektrolyt: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00 g/l Au,  40 – 100 g/l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eplota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50 – 60 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symetrický prúd hustoty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600 – 1500 A/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ie na vani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0,5 – 1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ok 1" descr=""/>
          <p:cNvPicPr/>
          <p:nvPr/>
        </p:nvPicPr>
        <p:blipFill>
          <a:blip r:embed="rId1"/>
          <a:stretch/>
        </p:blipFill>
        <p:spPr>
          <a:xfrm>
            <a:off x="2660760" y="3505320"/>
            <a:ext cx="38098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o procesov tavenia a rafinácie sa používajú viaceré suroviny. Tieto suroviny pochádzajú z viacerých technologických operácií a je možné ich rozdeliť nasledov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uroviny, ktoré vznikli získavaním z roztokov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mentačné zráž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elektrolyticky čisté ko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dukty sorpčných technológi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nódové kaly z elektrolýzy medi, niklu, zlata, striebra a ďalš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edziprodukty z chlorácie a parkesovania, stery, úle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liatiny s obsahom zlata, striebra a kovov platinovej skup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 Au kató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vodou a mechanické čis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acovanie s HCl alebo amoniakom (rozpustenie Ag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vodou, suš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ave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indukčnej peci, odlievanie ingo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odukt: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99,98 – 99,99 %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mesy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g, Cu, F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anódového k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nožstvo vznikajúceho anódového kalu závisí od zloženia anód a kolíše od 10 – 2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roztokom elektroly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mývanie kalu vodou v otáčajúcich sa bubnoch, kde cez otvory prepadáv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Cl(s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druhého bubna s vodou a tu ostávajú väčšie zrná Au z anódového kalu a dentrity katódového 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u kal sa suší a ide na tavenie an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gCl sa redukuje Fe práškom v prostredí HCl, premýva sa vodou a odlieva na Ag anó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opotrebovaného elektrolytu (elektrolytické vylučovanie Au z rozt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u – vylučovacia elektro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n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nerozpustná, grafit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t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u p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údová hustot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200 – 500 A/m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t, Pd – Zrážanie chloridom amón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u – Cementácia želez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kovov iónovou výme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5.2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ktrolytická rafinácia stri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ktroly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/l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do 15 g/l 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ľná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vyšuje elektrickú vodivosť elektrolytu a znižuje spotrebu 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ktrick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tó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ktrolytické Ag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, Al, oceľ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ó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ové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ímes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, Pt kovy, Cu, Pb, Bi, Zn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 spracovania anódových kalov aj Se,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ociácia elektroly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ó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 –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Ag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+0,799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ó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a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 do 20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narušuje priebeh elektrolý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andartný potenciá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+1,58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podstatn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yšš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ko 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(0,799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preto s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rozpúšť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 anóde a prechádza d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al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obsah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anóde n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vorí hustú kôru na anóde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siv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 a spôsobuje bočné reakcie na elektród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/P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987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hodnot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íz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, preto sa môž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ylučova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katóde pri zvýšenom obsahu v elektrolyt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smie prevýšiť 0,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/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hádza do k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+0,337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ľahko rozpúšť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anó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nedostatočnom premiešavaní elektrolytu a pri zvýšenej prúdovej hustote 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ôž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ylučovať na katóde spolu s A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o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ranič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oncentrácia Cu v elektroly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/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,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ádzajú do elektrolytu, hydrolyzujú a vypadávajú do k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úšť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na anóde a z roztoku vypadáva vo forme A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a proces elektrolýzy nemá vply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žiadavky na zloženie Ag anód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sah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 75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2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čistot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7,5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iebro sa vylučuje na katóde vo form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ndritov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olmých na kató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by nedošlo k skratu, mechanicky sa strhávajú v časových interval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tódy sú uložené do vriec, aby dendrity nepadali na dno a nemiešali sa s anódovým k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LEBO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nódy sú uložené do vriec, kde sa zachytáva anódový 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dmienky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elektrolytickej rafinácie A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údova hustot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– 600 A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plot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– 5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ódová prúdová výťažnosť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– 9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ätie na vani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,5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reba el energie: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 – 0,6 kWh na 1k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novaného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2285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avenie a rafinácia zlata a stri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. Tav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ktrolytická rafin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Hydrometalurgická rafin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1. Tavenie s troskotvornými prísad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čelom tavenia j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dstrániť sprievodné kovy a iné nečistoty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aby sa vytvoril odliatok s obsahom &gt; 95 % ušľachtilých kovo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to produkt je vhodný na priamy predaj a/alebo na ďalšiu rafináci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grafitových kelímkoch v elektrických indukčných pec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 vrstvou troskotvotvorných prísad, aby sa minimalizovali straty UK úle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oskotvorné prísady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z hmotnosti vsádzky kov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iazanie nečistôt a odkyslič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oxidovanie sprievodných kovov do tro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ó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órax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traboritan sódn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ný po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zliatiny: 1150 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: 1040 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60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xidácia prímesí</a:t>
            </a:r>
            <a:r>
              <a:rPr b="1" i="1" lang="sk-SK" sz="2000" spc="-1" strike="noStrike" u="sng">
                <a:solidFill>
                  <a:srgbClr val="0000ff"/>
                </a:solidFill>
                <a:uFillTx/>
                <a:latin typeface="Arial"/>
              </a:rPr>
              <a:t> prídavk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sk-SK" sz="20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ff"/>
                </a:solidFill>
                <a:latin typeface="Arial"/>
              </a:rPr>
              <a:t>alebo AgSO</a:t>
            </a:r>
            <a:r>
              <a:rPr b="1" lang="sk-SK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K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+ 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5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 Ag + 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dkysličenie taveniny pred odlievaní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venie za prídavku dreveného uh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venie vo vák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ebr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á sklon 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ztrekovaniu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tuhnutí v dôsledku uvoľňovania pohlteného kyslík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tohoto dôvodu sa taví pod vrstvou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revené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hlia, ktoré zabezpeču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ukčn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fé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tavený kov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 odlie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 ingotov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toré idú na rafináci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lorác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L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anódy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pujúce n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ktrolytick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fin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2. Tavenie s olovom a troskotvornými prísadami – Tavener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užíva sa olovo na zber a separáciu ušľachtilých kovov z roztavenej vsádz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šľachtilé kovy sa potom získavajú kupeláciou (odparením olova) alebo menej často lúhovaním olova v kysel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íva sa na spracovanie materiálov nízkej kvality a materiálov s vysokým obsahom o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sádzka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troskotvorné prísady, oxid olovnatý (PbO) a v prípade potreby uhl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plota: 1200 – 140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xid olovnatý sa redukuje kovmi, sulfidmi a uhlíkom za vzniku kovového olova. Olovo odteká cez roztavenú vsádzku ako jemné kvapôčky a zhromažďuje zlato a strieb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ces je pomalý, hlavne preto, že vyžaduje dve fázy. Je náročný na prácu a produkujú sa výpary olova, ktoré predstavujú nebezpečenstvo pre zdra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finácia chloráciou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 – Miller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í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ačnej rafinácie spočíva v tom, že neušľachtilé kovy a striebro sa oxidujú plynným chlórom oveľa ľahšie ako zl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 chlorácii sa fúka chlór do roztaveného surového z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prv 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voria chloridy neušľachtilých kovov a strieb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ktor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ozpúšť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roztavenom z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ôsledku menšej mernej hmotnost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yplávaj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pov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asť chloridov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chá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dostat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ného spôsobu s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a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g a Pt kovo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oženie kov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ačnou rafináci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Au, 7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% Ag, Cu, Pb, Fe, Z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rafinácie: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 čistoty  99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– 99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oba trvania: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30 – 45 minú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o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kelímkoch s korundovou výmurovk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indukčných elektrických peci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u vsádzke surového kovu sa pridávajú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roskotvorné prísady bórax, kremeň a chlorid sódný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rstva trosky zabraňuje úletu kovu a znižuje rozrušovanie materiálu kelím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 roztavení vsádzky sa do taveniny porcelánovou trubko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úka plynný chló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plota procesu j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150 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ízkoprchavé chloridy Fe a Zn prechádzajú do plynnej fáz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plota var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Cl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je vyššia ako teplota procesu, preto tvoria vrstvu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oztavených chlorido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ovrch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roztaveného z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hromadená vrstva roztavených chloridov sa spolu s trosko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riodicky sťahuj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 pridávajú sa nové dávky troskotvorných prís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vorba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červených dymo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nad taveninou je dôkaz tvorby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chloridu zlatitéh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 proces sa ukonč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traty z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mes chloridov a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osk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a znovu taví pri teplo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s prídavkom malého množstva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ód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asť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prit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k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ľa rov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Cl + 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4 NaCl + 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há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sebou kvapôčky zla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ískaná zliatina A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g ide znovu na chlorác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2-10-12T06:06:22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