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B4A3-7019-47FD-A72B-9FDB7975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E09-6144-4B15-8E4A-46F11DD3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BE7-A55E-4946-B7CB-1FE633E7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B7B-2C8A-4C1C-BF3C-2F4A05AD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03C5-9E64-4576-9167-507AA5B0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A41F-B65F-4CAC-9568-76FA3D5C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6D85-FE36-4014-9B3D-4509A496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84EA-16B7-483A-A2D0-A6D38085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01F9-4C55-4D5E-81A0-24A752D5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E940-AE48-4308-B8D2-6D133A56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C1EF-A7D3-4276-B6D8-BDB17CBB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8982-3C7B-490F-B7CB-5A557928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53FA-925B-47A1-82CB-FBEEDBB5AFB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latin_loest_sich_in_heissem_Koenigswasser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Golddust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Kovy platinovej skupiny (K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stupnosť delenia a rafinácie UK a KPS spracovaním v </a:t>
            </a:r>
            <a:r>
              <a:rPr b="0" lang="sk-SK" sz="3200" spc="-1" strike="noStrike">
                <a:solidFill>
                  <a:srgbClr val="ff0000"/>
                </a:solidFill>
                <a:latin typeface="Arial"/>
              </a:rPr>
              <a:t>lúčavke kráľovskej (L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sk-SK" sz="3200" spc="-1" strike="noStrike">
                <a:solidFill>
                  <a:srgbClr val="ff0000"/>
                </a:solidFill>
                <a:latin typeface="Arial"/>
              </a:rPr>
              <a:t>tave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t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Pd     </a:t>
            </a:r>
            <a:r>
              <a:rPr b="0" lang="sk-SK" sz="32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Rh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Ru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Ir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I. Lúhovanie v lúčavke kráľovskej (L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LK = HNO</a:t>
            </a:r>
            <a:r>
              <a:rPr b="1" lang="sk-SK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:HCl = 1: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0000"/>
                </a:solidFill>
                <a:latin typeface="Arial"/>
              </a:rPr>
              <a:t>4 – 6M roztok HCl + 20 % HNO</a:t>
            </a:r>
            <a:r>
              <a:rPr b="0" lang="sk-SK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sk-SK" sz="2800" spc="-1" strike="noStrike">
                <a:solidFill>
                  <a:srgbClr val="ff0000"/>
                </a:solidFill>
                <a:latin typeface="Arial"/>
              </a:rPr>
              <a:t> = oxid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 + 3 HCl ↔ NOCl + C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 + 2 H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Cl + H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 ↔ HNO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 + 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OCl + C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= silné oxidačné činid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Lúhovanie ovplyvň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ítomnosť 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orma prítomnosti KPS (kovy, oxidy, zlúčeniny, zliati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+ 3 HCl = Cl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+ NOCl + 2 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 H+ + 8 Cl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+ 2 N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+ Pt → [PtCl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2−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 + 2 NO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t(s) + 2 HN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aq) + 4 HCl(aq) → (NO)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tCl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) + 3 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 (l) + 1/2 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NO)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tCl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) + 2 HCl(aq) → H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tCl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aq) + 2 NOCl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xidácia:</a:t>
            </a:r>
            <a:r>
              <a:rPr b="1" lang="cs-CZ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PtCl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(aq) + Cl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(g) → H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PtCl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(aq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sk-SK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[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  <a:ea typeface="Arial"/>
              </a:rPr>
              <a:t>Pt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  <a:ea typeface="Arial"/>
              </a:rPr>
              <a:t>Cl</a:t>
            </a:r>
            <a:r>
              <a:rPr b="1" lang="sk-SK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]</a:t>
            </a:r>
            <a:r>
              <a:rPr b="1" lang="sk-SK" sz="2400" spc="-1" strike="noStrike">
                <a:solidFill>
                  <a:srgbClr val="ff0066"/>
                </a:solidFill>
                <a:latin typeface="Arial"/>
                <a:ea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[PtCl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2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sk-SK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[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  <a:ea typeface="Arial"/>
              </a:rPr>
              <a:t>Pd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  <a:ea typeface="Arial"/>
              </a:rPr>
              <a:t>Cl</a:t>
            </a:r>
            <a:r>
              <a:rPr b="1" lang="sk-SK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6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  <a:ea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1" lang="sk-SK" sz="24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1" lang="sk-SK" sz="24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1" lang="sk-SK" sz="24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1" lang="sk-SK" sz="2400" spc="-1" strike="noStrike">
                <a:solidFill>
                  <a:srgbClr val="ff0066"/>
                </a:solidFill>
                <a:latin typeface="Arial"/>
                <a:ea typeface="Arial"/>
              </a:rPr>
              <a:t>   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[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  <a:ea typeface="Arial"/>
              </a:rPr>
              <a:t>Au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  <a:ea typeface="Arial"/>
              </a:rPr>
              <a:t>Cl</a:t>
            </a:r>
            <a:r>
              <a:rPr b="1" lang="sk-SK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 roztoku 99 % Au, Pt a Pd, 50 % 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rozpustný zbytok: Rh, Ru, Ir, Os, Ag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220px-Platin_loest_sich_in_heissem_Koenigswass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3809880"/>
            <a:ext cx="20955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II. Redukcia Pd</a:t>
            </a:r>
            <a:r>
              <a:rPr b="1" lang="sk-SK" sz="2800" spc="-1" strike="noStrike" u="sng" baseline="30000">
                <a:solidFill>
                  <a:srgbClr val="0000ff"/>
                </a:solidFill>
                <a:uFillTx/>
                <a:latin typeface="Arial"/>
              </a:rPr>
              <a:t>4+</a:t>
            </a: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 na Pd</a:t>
            </a:r>
            <a:r>
              <a:rPr b="1" lang="sk-SK" sz="2800" spc="-1" strike="noStrike" u="sng" baseline="30000">
                <a:solidFill>
                  <a:srgbClr val="0000ff"/>
                </a:solidFill>
                <a:uFillTx/>
                <a:latin typeface="Arial"/>
              </a:rPr>
              <a:t>2+</a:t>
            </a: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, Ir</a:t>
            </a:r>
            <a:r>
              <a:rPr b="1" lang="sk-SK" sz="2800" spc="-1" strike="noStrike" u="sng" baseline="30000">
                <a:solidFill>
                  <a:srgbClr val="0000ff"/>
                </a:solidFill>
                <a:uFillTx/>
                <a:latin typeface="Arial"/>
              </a:rPr>
              <a:t>4+</a:t>
            </a: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 na Ir</a:t>
            </a:r>
            <a:r>
              <a:rPr b="1" lang="sk-SK" sz="2800" spc="-1" strike="noStrike" u="sng" baseline="30000">
                <a:solidFill>
                  <a:srgbClr val="0000ff"/>
                </a:solidFill>
                <a:uFillTx/>
                <a:latin typeface="Arial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 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[PdCl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[PdCl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bude sa cementovať s Au v ďalšom kro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III. Vylučovanie  práškového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 zrážaní Au na elektrolytickú rafinác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) Redukcia s kyselinou šťaveľo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 H[AuCl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] + 3 H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= 8 HCl + 2 Au + 6 C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b) Redukcia síranom železnatý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H[AuCl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] + 3 FeS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= Au + Fe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+ 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220px-Golddus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5105520"/>
            <a:ext cx="145584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IV.</a:t>
            </a:r>
            <a:r>
              <a:rPr b="0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Vylučovanie Pt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PtCl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 + 2 </a:t>
            </a:r>
            <a:r>
              <a:rPr b="1" lang="sk-SK" sz="2800" spc="-1" strike="noStrike">
                <a:solidFill>
                  <a:srgbClr val="ff0000"/>
                </a:solidFill>
                <a:latin typeface="Arial"/>
                <a:ea typeface="Arial"/>
              </a:rPr>
              <a:t>NH</a:t>
            </a:r>
            <a:r>
              <a:rPr b="1" lang="sk-SK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sk-SK" sz="2800" spc="-1" strike="noStrike">
                <a:solidFill>
                  <a:srgbClr val="ff0000"/>
                </a:solidFill>
                <a:latin typeface="Arial"/>
                <a:ea typeface="Arial"/>
              </a:rPr>
              <a:t>Cl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(NH</a:t>
            </a:r>
            <a:r>
              <a:rPr b="1" lang="sk-SK" sz="2800" spc="-1" strike="noStrike" u="sng" baseline="-25000">
                <a:solidFill>
                  <a:srgbClr val="0000ff"/>
                </a:solidFill>
                <a:uFillTx/>
                <a:latin typeface="Arial"/>
                <a:ea typeface="Arial"/>
              </a:rPr>
              <a:t>4</a:t>
            </a: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)</a:t>
            </a:r>
            <a:r>
              <a:rPr b="1" lang="sk-SK" sz="2800" spc="-1" strike="noStrike" u="sng" baseline="-25000">
                <a:solidFill>
                  <a:srgbClr val="0000ff"/>
                </a:solidFill>
                <a:uFillTx/>
                <a:latin typeface="Arial"/>
                <a:ea typeface="Arial"/>
              </a:rPr>
              <a:t>2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[</a:t>
            </a: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PtCl</a:t>
            </a:r>
            <a:r>
              <a:rPr b="1" lang="sk-SK" sz="2800" spc="-1" strike="noStrike" u="sng" baseline="-25000">
                <a:solidFill>
                  <a:srgbClr val="0000ff"/>
                </a:solidFill>
                <a:uFillTx/>
                <a:latin typeface="Arial"/>
                <a:ea typeface="Arial"/>
              </a:rPr>
              <a:t>6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]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 + 2 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Žíh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(NH</a:t>
            </a:r>
            <a:r>
              <a:rPr b="1" lang="sk-SK" sz="2000" spc="-1" strike="noStrike" u="sng" baseline="-25000">
                <a:solidFill>
                  <a:srgbClr val="000000"/>
                </a:solidFill>
                <a:uFillTx/>
                <a:latin typeface="Arial"/>
                <a:ea typeface="Arial"/>
              </a:rPr>
              <a:t>4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</a:t>
            </a:r>
            <a:r>
              <a:rPr b="1" lang="sk-SK" sz="2000" spc="-1" strike="noStrike" u="sng" baseline="-25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[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tCl</a:t>
            </a:r>
            <a:r>
              <a:rPr b="1" lang="sk-SK" sz="2000" spc="-1" strike="noStrike" u="sng" baseline="-25000">
                <a:solidFill>
                  <a:srgbClr val="000000"/>
                </a:solidFill>
                <a:uFillTx/>
                <a:latin typeface="Arial"/>
                <a:ea typeface="Arial"/>
              </a:rPr>
              <a:t>6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]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  <a:ea typeface="Arial"/>
              </a:rPr>
              <a:t>800 </a:t>
            </a:r>
            <a:r>
              <a:rPr b="1" lang="sk-SK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o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sk-SK" sz="2000" spc="-1" strike="noStrike">
                <a:solidFill>
                  <a:srgbClr val="ff0066"/>
                </a:solidFill>
                <a:latin typeface="Arial"/>
                <a:ea typeface="Arial"/>
              </a:rPr>
              <a:t>)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P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 + 16 HCl + 2 NH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Cl + 2 N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Produkt:</a:t>
            </a:r>
            <a:r>
              <a:rPr b="1" lang="sk-SK" sz="2800" spc="-1" strike="noStrike">
                <a:solidFill>
                  <a:srgbClr val="ff0000"/>
                </a:solidFill>
                <a:latin typeface="Arial"/>
                <a:ea typeface="Arial"/>
              </a:rPr>
              <a:t> Pt prášková h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Rafinácia Pt hu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pakované lúhovanie v lúčavke kráľovsk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lučovanie s NH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lcinácia podľa požadovanej čisto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t hu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V. Vylučovanie P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tok H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[PdCl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] (Pd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ost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1. Oxidácia Pd</a:t>
            </a:r>
            <a:r>
              <a:rPr b="1" lang="sk-SK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 na Pd</a:t>
            </a:r>
            <a:r>
              <a:rPr b="1" lang="sk-SK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4+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 + HNO</a:t>
            </a:r>
            <a:r>
              <a:rPr b="1" lang="sk-SK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dparenie 1/3 rozto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4+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zlúčen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2. Vylučovanie 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3. Lúhovanie s NH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OH 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→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roztok [Pd(NH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]Cl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. Zrážanie s HCl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d[(NH</a:t>
            </a:r>
            <a:r>
              <a:rPr b="0" lang="sk-SK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</a:t>
            </a:r>
            <a:r>
              <a:rPr b="0" lang="sk-SK" sz="2400" spc="-1" strike="noStrike" u="sng" baseline="-25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l</a:t>
            </a:r>
            <a:r>
              <a:rPr b="0" lang="sk-SK" sz="2400" spc="-1" strike="noStrike" u="sng" baseline="-25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]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 + 2 NH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Žíhanie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d[(NH</a:t>
            </a:r>
            <a:r>
              <a:rPr b="0" lang="sk-SK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</a:t>
            </a:r>
            <a:r>
              <a:rPr b="0" lang="sk-SK" sz="2400" spc="-1" strike="noStrike" u="sng" baseline="-25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l</a:t>
            </a:r>
            <a:r>
              <a:rPr b="0" lang="sk-SK" sz="2400" spc="-1" strike="noStrike" u="sng" baseline="-25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]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Pd h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afiná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pakované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lúhovanie v NH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H a zrážanie pomocou HCl zrazenina čistého  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[Pd(NH</a:t>
            </a:r>
            <a:r>
              <a:rPr b="1" lang="sk-SK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Cl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ff"/>
                </a:solidFill>
                <a:latin typeface="Arial"/>
              </a:rPr>
              <a:t>Spracovanie nerozpustného zvyšku po lúhovaní v LK (</a:t>
            </a: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Rh, Ru, Ir, Os, AgCl</a:t>
            </a:r>
            <a:r>
              <a:rPr b="0" lang="sk-SK" sz="2800" spc="-1" strike="noStrike">
                <a:solidFill>
                  <a:srgbClr val="0000ff"/>
                </a:solidFill>
                <a:latin typeface="Arial"/>
              </a:rPr>
              <a:t>)</a:t>
            </a:r>
            <a:br>
              <a:rPr sz="2800"/>
            </a:b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avenie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sóda, uhl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Lúhovani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v HN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tok = získavanie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rozpusný zvyšok = získavanie 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h, Ru, Ir,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VI. Získavanie R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1. Tavenie s NaHS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Rh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(SO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sk-SK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obre rozpustné vo v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2. Lúhovanie v 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roztok Rh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(SO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. Prídavok NaOH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zrazenina Rh(OH)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sk-SK" sz="20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4. Rozpúšťani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 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roztok H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[RhCl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5. Prídavok NaN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 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= vylučov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zrazenina (NH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Rh(NO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r>
              <a:rPr b="1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]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6. Lúhovanie v HCl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roztok (NH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[RhCl</a:t>
            </a:r>
            <a:r>
              <a:rPr b="1" lang="sk-SK" sz="20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7. Odpareni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roztoku,tepelný roz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Rh hu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8. Vyžíhanie v prúde 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Kovové práškové Rh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(99,8 – 99,85 %)</a:t>
            </a:r>
            <a:r>
              <a:rPr b="0" lang="sk-SK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Nerozpustný zbytok: Ru, Ir,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ff"/>
                </a:solidFill>
                <a:latin typeface="Arial"/>
              </a:rPr>
              <a:t>VII. Získavanie 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1. Tavenie s Na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(Ba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700 – 1000 °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2. Lúhovanie v 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roztok [RuO</a:t>
            </a:r>
            <a:r>
              <a:rPr b="0" lang="sk-SK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sk-SK" sz="2000" spc="-1" strike="noStrike" baseline="30000">
                <a:solidFill>
                  <a:srgbClr val="ff0000"/>
                </a:solidFill>
                <a:latin typeface="Arial"/>
              </a:rPr>
              <a:t>2-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 (Na</a:t>
            </a:r>
            <a:r>
              <a:rPr b="0" lang="sk-SK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RuO</a:t>
            </a:r>
            <a:r>
              <a:rPr b="0" lang="sk-SK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časť Os: [Os(OH)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. Zahrievanie v prúde Cl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estilácia Ru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4. Lúhovanie s 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oztok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sk-SK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RuCl</a:t>
            </a:r>
            <a:r>
              <a:rPr b="0" lang="sk-SK" sz="20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5. Vylučovanie Ru prídavkom + 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zrazenina (NH</a:t>
            </a:r>
            <a:r>
              <a:rPr b="0" lang="sk-SK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0" lang="sk-SK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[RuCl</a:t>
            </a:r>
            <a:r>
              <a:rPr b="0" lang="sk-SK" sz="20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r>
              <a:rPr b="0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6. Tepelný roz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7. Žíhanie v prúde 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Práškové R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Ru hu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Nerozpustný zbytok: Ir,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Arial"/>
              </a:rPr>
              <a:t>VIII. Získavanie 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. Lúhovanie v lúčavke kráľovsk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tok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sk-SK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[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  <a:ea typeface="Arial"/>
              </a:rPr>
              <a:t>IrCl</a:t>
            </a:r>
            <a:r>
              <a:rPr b="0" lang="sk-SK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. Vylúčenie s prídavkom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+ NH</a:t>
            </a:r>
            <a:r>
              <a:rPr b="1" lang="sk-SK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C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ff0000"/>
                </a:solidFill>
                <a:uFillTx/>
                <a:latin typeface="Arial"/>
              </a:rPr>
              <a:t>zrazenina (NH</a:t>
            </a:r>
            <a:r>
              <a:rPr b="0" lang="sk-SK" sz="2400" spc="-1" strike="noStrike" u="sng" baseline="-25000">
                <a:solidFill>
                  <a:srgbClr val="ff0000"/>
                </a:solidFill>
                <a:uFillTx/>
                <a:latin typeface="Arial"/>
              </a:rPr>
              <a:t>4</a:t>
            </a:r>
            <a:r>
              <a:rPr b="0" lang="sk-SK" sz="24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0" lang="sk-SK" sz="2400" spc="-1" strike="noStrike" u="sng" baseline="-25000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0" lang="sk-SK" sz="2400" spc="-1" strike="noStrike" u="sng">
                <a:solidFill>
                  <a:srgbClr val="ff0000"/>
                </a:solidFill>
                <a:uFillTx/>
                <a:latin typeface="Arial"/>
              </a:rPr>
              <a:t>[IrCl</a:t>
            </a:r>
            <a:r>
              <a:rPr b="0" lang="sk-SK" sz="2400" spc="-1" strike="noStrike" u="sng" baseline="-25000">
                <a:solidFill>
                  <a:srgbClr val="ff0000"/>
                </a:solidFill>
                <a:uFillTx/>
                <a:latin typeface="Arial"/>
              </a:rPr>
              <a:t>6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sk-SK" sz="2400" spc="-1" strike="noStrike" u="sng">
                <a:solidFill>
                  <a:srgbClr val="ff0000"/>
                </a:solidFill>
                <a:uFillTx/>
                <a:latin typeface="Arial"/>
              </a:rPr>
              <a:t>]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3. Tepelný rozk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r prášková h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4. Vyžíhani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 prúde H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Kovové práškové I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Nerozpustný zbytok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Postup výroby K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ff"/>
                </a:solidFill>
                <a:latin typeface="Arial"/>
              </a:rPr>
              <a:t>Spôsoby získavania koncentrátov zo surovín K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ff"/>
                </a:solidFill>
                <a:latin typeface="Arial"/>
              </a:rPr>
              <a:t>B) Spracovanie koncentrátov K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ff"/>
                </a:solidFill>
                <a:uFillTx/>
                <a:latin typeface="Arial"/>
              </a:rPr>
              <a:t>IX. Získavanie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. Lúhovanie OsO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oztoku NaO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tok Na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[Os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OH)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AL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yparovanie OsO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(g) do roztoku Na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Ttav = 40,6 </a:t>
            </a:r>
            <a:r>
              <a:rPr b="1" lang="sk-SK" sz="24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C    Tvaru = 131,2 </a:t>
            </a:r>
            <a:r>
              <a:rPr b="1" lang="sk-SK" sz="24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. Vylučovanie Os prídavkom + NH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ff0000"/>
                </a:solidFill>
                <a:uFillTx/>
                <a:latin typeface="Arial"/>
              </a:rPr>
              <a:t>zrazenina [Os(NH</a:t>
            </a:r>
            <a:r>
              <a:rPr b="0" lang="sk-SK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sk-SK" sz="24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0" lang="sk-SK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sk-SK" sz="2400" spc="-1" strike="noStrike" u="sng">
                <a:solidFill>
                  <a:srgbClr val="ff0000"/>
                </a:solidFill>
                <a:uFillTx/>
                <a:latin typeface="Arial"/>
              </a:rPr>
              <a:t>Cl</a:t>
            </a:r>
            <a:r>
              <a:rPr b="0" lang="sk-SK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sk-SK" sz="2400" spc="-1" strike="noStrike" u="sng">
                <a:solidFill>
                  <a:srgbClr val="ff0000"/>
                </a:solidFill>
                <a:uFillTx/>
                <a:latin typeface="Arial"/>
              </a:rPr>
              <a:t>(O</a:t>
            </a:r>
            <a:r>
              <a:rPr b="0" lang="sk-SK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sk-SK" sz="2400" spc="-1" strike="noStrike" u="sng">
                <a:solidFill>
                  <a:srgbClr val="ff0000"/>
                </a:solidFill>
                <a:uFillTx/>
                <a:latin typeface="Arial"/>
              </a:rPr>
              <a:t>)]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3. Tepelný rozk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Os prášková h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4. Žíhanie v prúde H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Kovové práškové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Arial"/>
              </a:rPr>
              <a:t>X. Získavanie 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tok AgN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1. Vylúčenie AgCl pomocou 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 Tavenie: uhlie, Na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3. Odlievanie anó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4. Rafinačná elektrolý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Technológie získavania kovov platinovej skupiny v prax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iame zrážanie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– Lonmin Platinum a Krastsvet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vapalinová extrakcia a zrážanie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– Anglo American Platinum, Johnson Matthey, Heraeus, V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Iónová výmena a zrážanie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– Impala Plati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Obrázok 3" descr=""/>
          <p:cNvPicPr/>
          <p:nvPr/>
        </p:nvPicPr>
        <p:blipFill>
          <a:blip r:embed="rId2"/>
          <a:stretch/>
        </p:blipFill>
        <p:spPr>
          <a:xfrm>
            <a:off x="247680" y="228600"/>
            <a:ext cx="864864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Spoločnosť Lonmin Western Platinum Refin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Obrázok 3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823752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Spoločnosť Krastsvetm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Obrázok 3" descr=""/>
          <p:cNvPicPr/>
          <p:nvPr/>
        </p:nvPicPr>
        <p:blipFill>
          <a:blip r:embed="rId1"/>
          <a:srcRect l="0" t="0" r="4004" b="0"/>
          <a:stretch/>
        </p:blipFill>
        <p:spPr>
          <a:xfrm>
            <a:off x="360360" y="1143000"/>
            <a:ext cx="842328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Spoločnosť Anglo American Platin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Obrázok 3" descr=""/>
          <p:cNvPicPr/>
          <p:nvPr/>
        </p:nvPicPr>
        <p:blipFill>
          <a:blip r:embed="rId2"/>
          <a:srcRect l="0" t="0" r="5259" b="0"/>
          <a:stretch/>
        </p:blipFill>
        <p:spPr>
          <a:xfrm>
            <a:off x="934920" y="1219320"/>
            <a:ext cx="7274160" cy="54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Spoločnosť Vale Ac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Obrázok 3" descr=""/>
          <p:cNvPicPr/>
          <p:nvPr/>
        </p:nvPicPr>
        <p:blipFill>
          <a:blip r:embed="rId2"/>
          <a:srcRect l="0" t="0" r="2170" b="0"/>
          <a:stretch/>
        </p:blipFill>
        <p:spPr>
          <a:xfrm>
            <a:off x="838080" y="1052640"/>
            <a:ext cx="7467840" cy="56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Spoločnosť Impala Plati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Obrázok 3" descr=""/>
          <p:cNvPicPr/>
          <p:nvPr/>
        </p:nvPicPr>
        <p:blipFill>
          <a:blip r:embed="rId2"/>
          <a:srcRect l="0" t="0" r="2844" b="0"/>
          <a:stretch/>
        </p:blipFill>
        <p:spPr>
          <a:xfrm>
            <a:off x="1295280" y="1295280"/>
            <a:ext cx="655344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Ďakujem za pozornos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362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Arial"/>
              </a:rPr>
              <a:t>A) Spôsoby získavania koncentrátov zo surovín K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I. Obohacovanie rúd KPS (0,0007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a) Gravitačné metódy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vysoká hustota K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b) Flotáci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(sulfidické ru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→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centráty (0,01 – 0,1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c) Amalgam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ustnosť platiny rastie s teplo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termetalické zlúčeniny: PtHg, Pt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Hg, Pt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odstraňuje oxidy neželezných kov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o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uda Pt + Zn amalgám v zriedenej H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isovanie amalgá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úhovanie v 10 % H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estilácia 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úhovanie s 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odukt: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70 %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d) Chlo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ískanie 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bohatý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koncentrátov KPS chloračným lúhova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Cieľ: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ískať komplexné ľahkorozpustné s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1. Oxidačné praženi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(ak sulfidické ru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2. Chloračné praž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+ NaCl + Cl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550 – 600 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t + 2Cl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+ 2 NaCl = </a:t>
            </a:r>
            <a:r>
              <a:rPr b="1" lang="sk-SK" sz="2400" spc="-1" strike="noStrike" u="sng">
                <a:solidFill>
                  <a:srgbClr val="ff0000"/>
                </a:solidFill>
                <a:uFillTx/>
                <a:latin typeface="Arial"/>
              </a:rPr>
              <a:t>Na</a:t>
            </a:r>
            <a:r>
              <a:rPr b="1" lang="sk-SK" sz="2400" spc="-1" strike="noStrike" u="sng" baseline="-25000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sk-SK" sz="2400" spc="-1" strike="noStrike" u="sng">
                <a:solidFill>
                  <a:srgbClr val="ff0000"/>
                </a:solidFill>
                <a:uFillTx/>
                <a:latin typeface="Arial"/>
              </a:rPr>
              <a:t>/PtCl</a:t>
            </a:r>
            <a:r>
              <a:rPr b="1" lang="sk-SK" sz="2400" spc="-1" strike="noStrike" u="sng" baseline="-25000">
                <a:solidFill>
                  <a:srgbClr val="ff0000"/>
                </a:solidFill>
                <a:uFillTx/>
                <a:latin typeface="Arial"/>
              </a:rPr>
              <a:t>6</a:t>
            </a:r>
            <a:r>
              <a:rPr b="1" lang="sk-SK" sz="2400" spc="-1" strike="noStrike" u="sng">
                <a:solidFill>
                  <a:srgbClr val="ff0000"/>
                </a:solidFill>
                <a:uFillTx/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3. Lúhovanie praženca v zriedenej 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tok Pt, Pd, 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4. Vylučovanie cementáci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íska sa medziprodukt Pt kovov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→ spracovanie v lúčavke kráľovsk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Produkt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cementačná zráž: 2 – 8 % ušľachtilých kov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50 % (percento) Pt, 15 % Pd, Cu, Ni,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Účinnosť: 80 – 87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ff"/>
                </a:solidFill>
                <a:latin typeface="Arial"/>
              </a:rPr>
              <a:t>II) Príklad spracovania NiCu rudy s obsahom K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Flotačný koncentrát 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tavenie na kamienok NiCu (kolektor KPS)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konvertorovanie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odlievanie taveniny do granúl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ff"/>
                </a:solidFill>
                <a:latin typeface="Arial"/>
              </a:rPr>
              <a:t>lúhovanie zliatiny NiCu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s </a:t>
            </a:r>
            <a:r>
              <a:rPr b="0" lang="sk-SK" sz="3200" spc="-1" strike="noStrike">
                <a:solidFill>
                  <a:srgbClr val="ff0000"/>
                </a:solidFill>
                <a:latin typeface="Arial"/>
              </a:rPr>
              <a:t>obsahom KP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ff"/>
                </a:solidFill>
                <a:latin typeface="Arial"/>
              </a:rPr>
              <a:t>Medziprodukty: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rozpustný zbytok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je koncentrát K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tok Ni + Cu = spracovanie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→ získavanie kovov Ni a 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III. Príklad spracovania CuNiCo r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Úprava rudy (sulfidická CuN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lotačný koncentrát (dvojnásobné mletie a flotá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bsah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KPS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vo flotačnom koncentráte kolíše okolo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100 až 1000 g/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Zkoncentrovanie KPS do taveniny kovov CuNiCo pyrometalurg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ušenie koncentrátu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→ tavenie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elektrickej peci pri teplotách nad 1500 °C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konvertorovanie kamienk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"konvertorový kamienok" obsahuje viac než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1400 g/t K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afinácia kamienka CuNiCo elektrolytickými spôsobmi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získanie kovov Cu, Ni a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medziprodukty: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  <a:ea typeface="Arial"/>
              </a:rPr>
              <a:t>anódové kaly s obsahom Au, Ag a K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19320" y="259092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ff"/>
                </a:solidFill>
                <a:latin typeface="Arial"/>
              </a:rPr>
              <a:t>B) Spracovanie koncentrátov K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san Orac</cp:lastModifiedBy>
  <dcterms:modified xsi:type="dcterms:W3CDTF">2021-11-03T07:04:31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