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6166-EAA3-461E-A6F1-ACD9D5CBC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EC2D-52C9-4C6E-9470-054AF869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B970-5456-4FF6-B922-645B23739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E227-9856-4707-BA86-F16ED5B6F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EC47-492D-4944-ABEC-8EF05641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A363-3C8B-484C-B306-FC7987AF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5203-0AF2-41D9-A1F2-B4813712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2EAC-1EB7-4642-BAA3-C4D5FE23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BD2E-990A-48EF-8826-FF1F16E7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6497-7558-44E3-B145-81DF3672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9E26-A25A-44A9-AD50-F016E1C2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9D3A-DA4F-4FFD-B150-38A65C9E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08FD-DB3E-4E59-9009-6978086F4A8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Lúhovanie Au a 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Lúhovanie vo vodných roztokoch alkalických kyanidov NaCN (KCN) + Na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Arial"/>
              </a:rPr>
              <a:t>Vplyv 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Je veľmi dôležité udržiavať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ásaditosť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roztokov počas lúhovania, aby sa zabránilo tvorbe extrémne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toxického HCN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N</a:t>
            </a:r>
            <a:r>
              <a:rPr b="0" lang="sk-SK" sz="2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sk-SK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 = HCN + OH</a:t>
            </a:r>
            <a:r>
              <a:rPr b="0" lang="sk-SK" sz="2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Obrázok 2" descr=""/>
          <p:cNvPicPr/>
          <p:nvPr/>
        </p:nvPicPr>
        <p:blipFill>
          <a:blip r:embed="rId1"/>
          <a:srcRect l="0" t="0" r="2015" b="3205"/>
          <a:stretch/>
        </p:blipFill>
        <p:spPr>
          <a:xfrm>
            <a:off x="1447920" y="2743200"/>
            <a:ext cx="5916600" cy="40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ysoká zásaditosť znižuje rýchlosť lúhovania zl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i vyšších hodnotách pH (nad 12) dochádza k prudkému zníženiu rýchlosti lúhovania. Z tohto dôvodu sa musí prísne kontrolovať pH rozto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 praxi sa pH udržiava v rozmedzí 11 – 12 prídavkom Ca(OH)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Obrázok 3" descr=""/>
          <p:cNvPicPr/>
          <p:nvPr/>
        </p:nvPicPr>
        <p:blipFill>
          <a:blip r:embed="rId1"/>
          <a:srcRect l="0" t="3693" r="0" b="3525"/>
          <a:stretch/>
        </p:blipFill>
        <p:spPr>
          <a:xfrm>
            <a:off x="1863720" y="2490840"/>
            <a:ext cx="541656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Chemické príčiny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trát kyanidu spočívajú v spotrebe kyanidových solí na soli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iných kovov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, než na zlúčeniny zla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Časť kyanidu môže prejsť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 prchavú zložku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 okrem toho sa vo veľkej miere kyanid spotrebuje na tvorbu solí iných kovov, ktoré sprevádzajú zlato v ru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Mechanické straty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yanidu spočívajú v tom, že nenastane dokonalé oddelenie roztoku od nerozpustného zvyšku po skončení lúhova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tratám kyanidu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je možné zabrániť v prvom rade pridávaním </a:t>
            </a:r>
            <a:br>
              <a:rPr sz="2000"/>
            </a:b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tzv. ochrannej zásady vo forme vápenca alebo hydroxidu sodného do roztoku, čomu sa hovorí ochranná alkalita rozto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52280" y="4572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Arial"/>
              </a:rPr>
              <a:t>Vplyv teplo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vyšovaním teploty </a:t>
            </a:r>
            <a:r>
              <a:rPr b="0" lang="sk-SK" sz="2400" spc="-1" strike="noStrike">
                <a:solidFill>
                  <a:srgbClr val="ff0000"/>
                </a:solidFill>
                <a:latin typeface="Arial"/>
              </a:rPr>
              <a:t>do 85 </a:t>
            </a:r>
            <a:r>
              <a:rPr b="0" lang="sk-SK" sz="24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0" lang="sk-SK" sz="2400" spc="-1" strike="noStrike">
                <a:solidFill>
                  <a:srgbClr val="ff0000"/>
                </a:solidFill>
                <a:latin typeface="Arial"/>
              </a:rPr>
              <a:t>C sa zvyšuje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rýchlosť lúhovania ušľachtilých kovov. Znižuje sa však obsah kyslíka v roztok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sk-SK" sz="2400" spc="-1" strike="noStrike">
                <a:solidFill>
                  <a:srgbClr val="ff0000"/>
                </a:solidFill>
                <a:latin typeface="Arial"/>
              </a:rPr>
              <a:t>praxi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a lúhovanie uskutočňuje pri teplote </a:t>
            </a:r>
            <a:r>
              <a:rPr b="0" lang="sk-SK" sz="2400" spc="-1" strike="noStrike">
                <a:solidFill>
                  <a:srgbClr val="ff0000"/>
                </a:solidFill>
                <a:latin typeface="Arial"/>
              </a:rPr>
              <a:t>okoli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Obrázok 2" descr=""/>
          <p:cNvPicPr/>
          <p:nvPr/>
        </p:nvPicPr>
        <p:blipFill>
          <a:blip r:embed="rId1"/>
          <a:stretch/>
        </p:blipFill>
        <p:spPr>
          <a:xfrm>
            <a:off x="2147760" y="2492280"/>
            <a:ext cx="516744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600" spc="-1" strike="noStrike">
                <a:solidFill>
                  <a:srgbClr val="000000"/>
                </a:solidFill>
                <a:latin typeface="Arial"/>
              </a:rPr>
              <a:t>Vplyv mieš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0000"/>
                </a:solidFill>
                <a:latin typeface="Arial"/>
              </a:rPr>
              <a:t>Aktivačná energia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lúhovania je v rozmedzí </a:t>
            </a:r>
            <a:r>
              <a:rPr b="0" lang="sk-SK" sz="3200" spc="-1" strike="noStrike">
                <a:solidFill>
                  <a:srgbClr val="ff0000"/>
                </a:solidFill>
                <a:latin typeface="Arial"/>
              </a:rPr>
              <a:t>8 – 20 kJ/mol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, čo je typická hodnota pre proces kontrolovaný </a:t>
            </a:r>
            <a:r>
              <a:rPr b="0" lang="sk-SK" sz="3200" spc="-1" strike="noStrike">
                <a:solidFill>
                  <a:srgbClr val="ff0000"/>
                </a:solidFill>
                <a:latin typeface="Arial"/>
              </a:rPr>
              <a:t>difúziou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0000"/>
                </a:solidFill>
                <a:latin typeface="Arial"/>
              </a:rPr>
              <a:t>Miešanie zvyšuje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rýchlosť lúhovania ušľachtilých kovov, čo je typické pre proces kontrolovaný </a:t>
            </a:r>
            <a:r>
              <a:rPr b="0" lang="sk-SK" sz="3200" spc="-1" strike="noStrike">
                <a:solidFill>
                  <a:srgbClr val="ff0000"/>
                </a:solidFill>
                <a:latin typeface="Arial"/>
              </a:rPr>
              <a:t>difúziou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5"/>
          <p:cNvSpPr/>
          <p:nvPr/>
        </p:nvSpPr>
        <p:spPr>
          <a:xfrm>
            <a:off x="152280" y="1369080"/>
            <a:ext cx="883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006560"/>
                <a:tab algn="l" pos="1554120"/>
                <a:tab algn="l" pos="2103480"/>
                <a:tab algn="l" pos="2651040"/>
                <a:tab algn="l" pos="3200400"/>
                <a:tab algn="l" pos="3749760"/>
                <a:tab algn="l" pos="4297320"/>
                <a:tab algn="l" pos="4846680"/>
                <a:tab algn="l" pos="5394240"/>
                <a:tab algn="l" pos="5943600"/>
                <a:tab algn="l" pos="6492960"/>
                <a:tab algn="l" pos="7040520"/>
                <a:tab algn="l" pos="7589880"/>
                <a:tab algn="l" pos="8137440"/>
                <a:tab algn="l" pos="8686800"/>
                <a:tab algn="l" pos="9236160"/>
                <a:tab algn="l" pos="9783720"/>
                <a:tab algn="l" pos="10333080"/>
                <a:tab algn="l" pos="10880640"/>
                <a:tab algn="l" pos="11430000"/>
                <a:tab algn="l" pos="11979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bežné sprievodné kovy: Cu, Fe, Ni, Co, Zn, Hg, Pb, As, S, 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006560"/>
                <a:tab algn="l" pos="1554120"/>
                <a:tab algn="l" pos="2103480"/>
                <a:tab algn="l" pos="2651040"/>
                <a:tab algn="l" pos="3200400"/>
                <a:tab algn="l" pos="3749760"/>
                <a:tab algn="l" pos="4297320"/>
                <a:tab algn="l" pos="4846680"/>
                <a:tab algn="l" pos="5394240"/>
                <a:tab algn="l" pos="5943600"/>
                <a:tab algn="l" pos="6492960"/>
                <a:tab algn="l" pos="7040520"/>
                <a:tab algn="l" pos="7589880"/>
                <a:tab algn="l" pos="8137440"/>
                <a:tab algn="l" pos="8686800"/>
                <a:tab algn="l" pos="9236160"/>
                <a:tab algn="l" pos="9783720"/>
                <a:tab algn="l" pos="10333080"/>
                <a:tab algn="l" pos="10880640"/>
                <a:tab algn="l" pos="11430000"/>
                <a:tab algn="l" pos="11979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Hg</a:t>
            </a:r>
            <a:r>
              <a:rPr b="0" lang="sk-SK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, Fe</a:t>
            </a:r>
            <a:r>
              <a:rPr b="0" lang="sk-SK" sz="24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, Co</a:t>
            </a:r>
            <a:r>
              <a:rPr b="0" lang="sk-SK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tvoria komplexy prednostne pred ušľachtilými kovmi – zvyšovanie spotreby kyanidu, kyslí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006560"/>
                <a:tab algn="l" pos="1554120"/>
                <a:tab algn="l" pos="2103480"/>
                <a:tab algn="l" pos="2651040"/>
                <a:tab algn="l" pos="3200400"/>
                <a:tab algn="l" pos="3749760"/>
                <a:tab algn="l" pos="4297320"/>
                <a:tab algn="l" pos="4846680"/>
                <a:tab algn="l" pos="5394240"/>
                <a:tab algn="l" pos="5943600"/>
                <a:tab algn="l" pos="6492960"/>
                <a:tab algn="l" pos="7040520"/>
                <a:tab algn="l" pos="7589880"/>
                <a:tab algn="l" pos="8137440"/>
                <a:tab algn="l" pos="8686800"/>
                <a:tab algn="l" pos="9236160"/>
                <a:tab algn="l" pos="9783720"/>
                <a:tab algn="l" pos="10333080"/>
                <a:tab algn="l" pos="10880640"/>
                <a:tab algn="l" pos="11430000"/>
                <a:tab algn="l" pos="11979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nečisťujú roz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006560"/>
                <a:tab algn="l" pos="1554120"/>
                <a:tab algn="l" pos="2103480"/>
                <a:tab algn="l" pos="2651040"/>
                <a:tab algn="l" pos="3200400"/>
                <a:tab algn="l" pos="3749760"/>
                <a:tab algn="l" pos="4297320"/>
                <a:tab algn="l" pos="4846680"/>
                <a:tab algn="l" pos="5394240"/>
                <a:tab algn="l" pos="5943600"/>
                <a:tab algn="l" pos="6492960"/>
                <a:tab algn="l" pos="7040520"/>
                <a:tab algn="l" pos="7589880"/>
                <a:tab algn="l" pos="8137440"/>
                <a:tab algn="l" pos="8686800"/>
                <a:tab algn="l" pos="9236160"/>
                <a:tab algn="l" pos="9783720"/>
                <a:tab algn="l" pos="10333080"/>
                <a:tab algn="l" pos="10880640"/>
                <a:tab algn="l" pos="11430000"/>
                <a:tab algn="l" pos="11979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PS tiež vytvárajú komplexy a budú sa rozpúšťať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152280" y="380880"/>
            <a:ext cx="8839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Arial"/>
              </a:rPr>
              <a:t>Vplyv prímes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228600" y="3581280"/>
            <a:ext cx="86868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Me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äčšina minerálov medi okrem chalkopyritu je veľmi dobre rozpustná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roztokoch kyanido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Meď tvorí niekoľko komplexov s kyanidom napr. Cu(CN)</a:t>
            </a:r>
            <a:r>
              <a:rPr b="0" lang="sk-SK" sz="1800" spc="-1" strike="noStrike" baseline="30000">
                <a:solidFill>
                  <a:srgbClr val="000000"/>
                </a:solidFill>
                <a:latin typeface="Arial"/>
              </a:rPr>
              <a:t>2–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, Cu(CN)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k-SK" sz="1800" spc="-1" strike="noStrike" baseline="30000">
                <a:solidFill>
                  <a:srgbClr val="000000"/>
                </a:solidFill>
                <a:latin typeface="Arial"/>
              </a:rPr>
              <a:t>2–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, Cu(CN)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sk-SK" sz="2400" spc="-1" strike="noStrike" baseline="30000">
                <a:solidFill>
                  <a:srgbClr val="000000"/>
                </a:solidFill>
                <a:latin typeface="Arial"/>
              </a:rPr>
              <a:t>3–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Meď </a:t>
            </a:r>
            <a:r>
              <a:rPr b="1" lang="sk-SK" sz="2400" spc="-1" strike="noStrike">
                <a:solidFill>
                  <a:srgbClr val="ff0000"/>
                </a:solidFill>
                <a:latin typeface="Arial"/>
              </a:rPr>
              <a:t>najviac zvyšuje spotrebu reagentov</a:t>
            </a:r>
            <a:r>
              <a:rPr b="0" lang="sk-SK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3822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Želez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ždy prítomné v zlatonosných rudách vo forme oxidov, sulfid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eS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(pyrit) – málo reaguje s kyanid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Ortuť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ežne sa vyskytuje v suroviná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ytvára stabilný komplex a zvyšuje spotrebu kyanid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Zino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jčastejšie vo forme ZnS (sfaler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lúhuje sa v kyanidoch a vytvára kyanokomplex rozpustný vo v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Olov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bS (galenit) – nereaguje s kyanid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Teluri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 kyanidizačnom procese nespôsobujú problé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Arzén, antim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ajčastejšie FeAsS (arzenopyrit), Sb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(stibn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eAsS – nereaguje s kyanid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, As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, Sb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– reagujú a spotrebovávajú kyanid  a kyslí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 u="sng">
                <a:solidFill>
                  <a:srgbClr val="000000"/>
                </a:solidFill>
                <a:uFillTx/>
                <a:latin typeface="Arial"/>
              </a:rPr>
              <a:t>Priemyselné podmienky s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lúhovanie za atmosferického tla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nízke koncentrácie kyanidu: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0,01– 0,25 % NaC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0,2 – 0,5 kg NaCN na tonu r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relatívne vysoké pH – minimalizovanie strát CN</a:t>
            </a:r>
            <a:r>
              <a:rPr b="0" lang="sk-SK" sz="32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 hydrolýzou, pH = 11 –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ff"/>
                </a:solidFill>
                <a:latin typeface="Arial"/>
              </a:rPr>
              <a:t>Proces lúhovania zlata a striebra v roztokoch alkalických kyanid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Výh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Efektívny i </a:t>
            </a:r>
            <a:r>
              <a:rPr b="0" lang="sk-SK" sz="2400" spc="-1" strike="noStrike">
                <a:solidFill>
                  <a:srgbClr val="ff0000"/>
                </a:solidFill>
                <a:latin typeface="Arial"/>
              </a:rPr>
              <a:t>ekonomicky výhodný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pre rôzne typy zlatonosných materiálov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Nedostat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ysoká </a:t>
            </a:r>
            <a:r>
              <a:rPr b="0" lang="sk-SK" sz="2400" spc="-1" strike="noStrike">
                <a:solidFill>
                  <a:srgbClr val="ff0000"/>
                </a:solidFill>
                <a:latin typeface="Arial"/>
              </a:rPr>
              <a:t>toxicit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reagen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Možná </a:t>
            </a:r>
            <a:r>
              <a:rPr b="0" lang="sk-SK" sz="2400" spc="-1" strike="noStrike">
                <a:solidFill>
                  <a:srgbClr val="ff0000"/>
                </a:solidFill>
                <a:latin typeface="Arial"/>
              </a:rPr>
              <a:t>tvorb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veľmi jedovatého </a:t>
            </a:r>
            <a:r>
              <a:rPr b="0" lang="sk-SK" sz="2400" spc="-1" strike="noStrike">
                <a:solidFill>
                  <a:srgbClr val="ff0000"/>
                </a:solidFill>
                <a:latin typeface="Arial"/>
              </a:rPr>
              <a:t>kyanovodí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Možný</a:t>
            </a:r>
            <a:r>
              <a:rPr b="0" lang="sk-SK" sz="2400" spc="-1" strike="noStrike">
                <a:solidFill>
                  <a:srgbClr val="ff0000"/>
                </a:solidFill>
                <a:latin typeface="Arial"/>
              </a:rPr>
              <a:t> prienik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kyanidových solí do </a:t>
            </a:r>
            <a:r>
              <a:rPr b="0" lang="sk-SK" sz="2400" spc="-1" strike="noStrike">
                <a:solidFill>
                  <a:srgbClr val="ff0000"/>
                </a:solidFill>
                <a:latin typeface="Arial"/>
              </a:rPr>
              <a:t>odpadných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vô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latívne vysoké nároky na </a:t>
            </a:r>
            <a:r>
              <a:rPr b="0" lang="sk-SK" sz="2400" spc="-1" strike="noStrike">
                <a:solidFill>
                  <a:srgbClr val="ff0000"/>
                </a:solidFill>
                <a:latin typeface="Arial"/>
              </a:rPr>
              <a:t>bezpečnosť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a ochranu zdravia pri prá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dostatočná </a:t>
            </a:r>
            <a:r>
              <a:rPr b="0" lang="sk-SK" sz="2400" spc="-1" strike="noStrike">
                <a:solidFill>
                  <a:srgbClr val="ff0000"/>
                </a:solidFill>
                <a:latin typeface="Arial"/>
              </a:rPr>
              <a:t>selektívnosť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proce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lhé časy lúhovania </a:t>
            </a:r>
            <a:r>
              <a:rPr b="0" lang="sk-SK" sz="2400" spc="-1" strike="noStrike">
                <a:solidFill>
                  <a:srgbClr val="ff0000"/>
                </a:solidFill>
                <a:latin typeface="Arial"/>
              </a:rPr>
              <a:t>24 – 72 hodí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utná </a:t>
            </a:r>
            <a:r>
              <a:rPr b="0" lang="sk-SK" sz="2400" spc="-1" strike="noStrike">
                <a:solidFill>
                  <a:srgbClr val="ff0000"/>
                </a:solidFill>
                <a:latin typeface="Arial"/>
              </a:rPr>
              <a:t>neutralizácia</a:t>
            </a:r>
            <a:r>
              <a:rPr b="0" lang="sk-SK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i spracovaní surovín, vyžadujúcich biooxidačnú alebo kyslú predúprav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oces kyanidizácie zlata sa stal univerzálnou technológiou získavania zlata od roku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1889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, keď agličania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J.S.MacArthur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 bratia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R. a W. Forrest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tento proces patentoval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Merrill-Crowe proces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je precipitácia ušľachtilých kovov z kyanidových roztokov zinkovým prachom po predchádzajúcej deareácii roztok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vé priemyselné využitie (Nový Zéland, Južná Afrik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u a Ag – najmenej reaktívne ko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u – výskyt v prírode v kovovej for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g – v kovovej forme a vo forme sulfidu Ag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ff"/>
                </a:solidFill>
                <a:uFillTx/>
                <a:latin typeface="Arial"/>
              </a:rPr>
              <a:t>PAL Pro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EGUSSA nemecká spoločnosť je autorom proce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0066"/>
                </a:solidFill>
                <a:latin typeface="Arial"/>
              </a:rPr>
              <a:t>Lúhovanie Au a Ag kyanizačným lúhovaním s prídavkom H</a:t>
            </a:r>
            <a:r>
              <a:rPr b="1" lang="sk-SK" sz="16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1" lang="sk-SK" sz="16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1" lang="sk-SK" sz="16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sk-SK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k-SK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= katalyzátor – vysoká účinnosť oxidácie Au a Ag pri kyanidovom lúhova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lasický spôsob = prevzdušňovanie rmutu – nízka rozpustnosť kyslíka v rmute  – nízka kinetika procesu a nižšie výťažnosti Au, 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 priebehu lúhovania sa vytvára peroxid vodíka ako medziprodukt z oxidácie ušľachtilých kovov a zúčastňuje sa procesu oxidác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2 Au + 4 KCN + 2 H</a:t>
            </a:r>
            <a:r>
              <a:rPr b="1" lang="cs-CZ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 + O</a:t>
            </a:r>
            <a:r>
              <a:rPr b="1" lang="cs-CZ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= 2 K[Au(CN)</a:t>
            </a:r>
            <a:r>
              <a:rPr b="1" lang="cs-CZ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] + 2 KOH + H</a:t>
            </a:r>
            <a:r>
              <a:rPr b="1" lang="cs-CZ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cs-CZ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2 Au + 4 KCN + H</a:t>
            </a:r>
            <a:r>
              <a:rPr b="1" lang="cs-CZ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cs-CZ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= 2 K[Au(CN)</a:t>
            </a:r>
            <a:r>
              <a:rPr b="1" lang="cs-CZ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] + 2 KO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600" spc="-1" strike="noStrike">
                <a:solidFill>
                  <a:srgbClr val="0000ff"/>
                </a:solidFill>
                <a:latin typeface="Arial"/>
              </a:rPr>
              <a:t>Cieľom prídavku peroxidu vodíka je zabezpečiť dostatok potrebného kyslíka</a:t>
            </a:r>
            <a:r>
              <a:rPr b="0" lang="sk-SK" sz="1600" spc="-1" strike="noStrike">
                <a:solidFill>
                  <a:srgbClr val="0000ff"/>
                </a:solidFill>
                <a:latin typeface="Arial"/>
              </a:rPr>
              <a:t> pre lúhovan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 zhode s týmito rovnicami peroxid vodíka musí byť rozložený ako prvý a uvoľniť kyslík na oxidáciu Au a Ag podľa rovni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sk-SK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cs-CZ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 =  0,5 O</a:t>
            </a:r>
            <a:r>
              <a:rPr b="1" lang="sk-SK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 + H</a:t>
            </a:r>
            <a:r>
              <a:rPr b="1" lang="sk-SK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600" spc="-1" strike="noStrike">
                <a:solidFill>
                  <a:srgbClr val="000000"/>
                </a:solidFill>
                <a:latin typeface="Arial"/>
              </a:rPr>
              <a:t>Výhody kyanidového lúhovania za prídavku peroxidu vodík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ššia rozpustnosť kyslíka v rmute o 50 – 200 % než prevzdušňovaní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ššia rýchlosť rozpúšťania, úmerná zvyšujúcej sa koncentrácii kyslíka v rm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Zníženie spotreby kyanidov v dôsledku znížených strát H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ff"/>
                </a:solidFill>
                <a:uFillTx/>
                <a:latin typeface="Arial"/>
              </a:rPr>
              <a:t>Regenerácia a zneškodnenie kyanidových roztokov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dpadné vody musia byť zbavené kyanidov pred ich vypustením do životného prostredia, pretože sú silne toxick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A) Regenerácia pomocou SO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alebo H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SO</a:t>
            </a:r>
            <a:r>
              <a:rPr b="1" i="1" lang="sk-SK" sz="2800" spc="-1" strike="noStrike" u="sng" baseline="-25000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bublávaním SO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v roztoku alebo prídavkom H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vzniká HCN, ktorý je absorbovaný do roztoku NaOH za tvorby NaCN a ten je recyklovaný (pH = 2,8 – 3,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+ 2 CN</a:t>
            </a:r>
            <a:r>
              <a:rPr b="1" lang="sk-SK" sz="2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 = 2 HCN(g) + SO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sk-SK" sz="2400" spc="-1" strike="noStrike" baseline="30000">
                <a:solidFill>
                  <a:srgbClr val="000000"/>
                </a:solidFill>
                <a:latin typeface="Arial"/>
              </a:rPr>
              <a:t>2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HCN + NaOH = NaCN + H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leb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2 HCN + Ca(OH)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= Ca(CN)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B) Zneškodne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0000"/>
                </a:solidFill>
                <a:latin typeface="Arial"/>
              </a:rPr>
              <a:t>1. Oxidácia kyanidov na kyaná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atiaľ čo kyanidové ióny sú veľmi toxické, produkt ich oxidácie,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kyanátové ióny CNO</a:t>
            </a:r>
            <a:r>
              <a:rPr b="1" lang="sk-SK" sz="2000" spc="-1" strike="noStrike" baseline="30000">
                <a:solidFill>
                  <a:srgbClr val="ff0000"/>
                </a:solidFill>
                <a:latin typeface="Arial"/>
              </a:rPr>
              <a:t>–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 nie sú toxické.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 oxidáciu sa používa chlór alebo NaOCl (CaOC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CN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2 OH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= CNO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2 Cl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0000"/>
                </a:solidFill>
                <a:latin typeface="Arial"/>
              </a:rPr>
              <a:t>2. Ozonizá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xidácia kyanidov a tiokyanátov ozón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0000"/>
                </a:solidFill>
                <a:latin typeface="Arial"/>
              </a:rPr>
              <a:t>3. Oxidácia s H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sk-SK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0000"/>
                </a:solidFill>
                <a:latin typeface="Arial"/>
              </a:rPr>
              <a:t>4. Elektrolýza, iónová vým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0000"/>
                </a:solidFill>
                <a:latin typeface="Arial"/>
              </a:rPr>
              <a:t>4. Použitie mikroorganizm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jvhodnejšie sú heterotrofné baktérie rodu "</a:t>
            </a: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pseudomonas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" a nitrifikačné "</a:t>
            </a: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nitrosomous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" v prostredí pH = 7 – 8,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Mikroorganizmy katalyzujú oxidáciu kyanidov až na oxid uhličitý a dusičn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2 CN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5 O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= 2 CO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2 NO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Účinnosť rozkladu dosahuje až 90 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 u="sng">
                <a:solidFill>
                  <a:srgbClr val="0000ff"/>
                </a:solidFill>
                <a:uFillTx/>
                <a:latin typeface="Arial"/>
              </a:rPr>
              <a:t>4. Získavanie Au, Ag z rozto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1. Cementácia so Z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2. Cementácia s Al, (P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3. Sorpcia na aktívné uh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4. Iónová vým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5. Kvapalinová extrak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6. Elektrolý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ff"/>
                </a:solidFill>
                <a:uFillTx/>
                <a:latin typeface="Arial"/>
              </a:rPr>
              <a:t>1. Cementácia  zink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errill – Crowe proces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k-SK" sz="2400" spc="-1" strike="noStrike">
                <a:solidFill>
                  <a:srgbClr val="ff0000"/>
                </a:solidFill>
                <a:latin typeface="Arial"/>
              </a:rPr>
              <a:t>precipitáci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ušľachtilých kovov z kyanidových roztokov </a:t>
            </a:r>
            <a:r>
              <a:rPr b="0" lang="sk-SK" sz="2400" spc="-1" strike="noStrike">
                <a:solidFill>
                  <a:srgbClr val="ff0000"/>
                </a:solidFill>
                <a:latin typeface="Arial"/>
              </a:rPr>
              <a:t>zinkovým prachom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po predchádzajúcej deareácii roztoku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cipitácia ušľachtilých kovov pomocou zinku bola používaná už od roku 1 80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Táto metóda bola pôvodne patentovaná Salmanom a Pichardom a aplikovaná C. W. Merrillom v roku 189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intenzívnenie procesu bolo dosiahnuté zavedením odkysličenia roztoku T. B. Crowom v roku 191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51920" y="4568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1887 – MacArthur: Zn pil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1904 – Merrill: Zn pr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             –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Crowe: odkysličenie výluhov pred cementáciou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Cementátor musí byť dobre rozpust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ach je lepší ako pil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Reakc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2 [Au(CN)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Zn = [Zn(CN)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2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2 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dkysličenie sa realizuje, aby sa nevytváral Zn(OH)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: Zn + 4 CN</a:t>
            </a:r>
            <a:r>
              <a:rPr b="0" lang="sk-SK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 + 0,5 O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= [Zn(CN)4]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2 OH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n + 0,5 O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 = Zn(OH)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Spracovanie zrazenin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razenina spolu so Zn práškom ide najprv na odvodnenie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) Priama tavba v kelímk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e čisté a bohaté vycementované zl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Tavením s troskotvornými prísad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ľahká taviteľnosť vznikajúcej tro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(borax):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dobrá tekutosť tro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vytvára bisilikátovú trosku, ktorá je ľahko taviteľná a nenapadá grafitové kelím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CaF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nižuje bod tavenia tro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NaNO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(liadok sodný):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ko okysličovad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b) Lúhovanie v 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Cieľ: previesť Zn do rozto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emývanie s H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tave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ff"/>
                </a:solidFill>
                <a:uFillTx/>
                <a:latin typeface="Arial"/>
              </a:rPr>
              <a:t>2. Cementácia s Al, (P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3 Au(CN)</a:t>
            </a:r>
            <a:r>
              <a:rPr b="1" lang="sk-SK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Al + 4 OH</a:t>
            </a:r>
            <a:r>
              <a:rPr b="1" lang="sk-SK" sz="2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= 3 Au + AlO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6 CN</a:t>
            </a:r>
            <a:r>
              <a:rPr b="1" lang="sk-SK" sz="2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3 Ag(CN)</a:t>
            </a:r>
            <a:r>
              <a:rPr b="1" lang="sk-SK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Al + 4 OH </a:t>
            </a:r>
            <a:r>
              <a:rPr b="1" lang="sk-SK" sz="2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= 3 Ag + AlO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6 CN</a:t>
            </a:r>
            <a:r>
              <a:rPr b="1" lang="sk-SK" sz="2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ff"/>
                </a:solidFill>
                <a:uFillTx/>
                <a:latin typeface="Arial"/>
              </a:rPr>
              <a:t>3. Sorpcia na aktívné uh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Uhlie má kladný náboj a komplexy ušľachtilých kovov sú sorbované ako katión – aniónový pá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 Au(CN)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(aq)  +  M</a:t>
            </a:r>
            <a:r>
              <a:rPr b="1" lang="sk-SK" sz="2400" spc="-1" strike="noStrike" baseline="30000">
                <a:solidFill>
                  <a:srgbClr val="000000"/>
                </a:solidFill>
                <a:latin typeface="Arial"/>
              </a:rPr>
              <a:t>n+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(aq)  =  M[Au(CN)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sk-SK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 (aktívne uhl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 polovici 70. rokov 20. storoč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ahradenie Merrill–Crowe procesu aktívnym uhlím umožnilo spracovanie nízko kvalitných rú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nížili sa kapitálové a prevádzkov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náme sú tri spôsoby použitia aktívneho uhli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dsorpcia z roztoku po lúhovaní (CIP – „carbon–in–pulp“)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. CIP spôsob je založený na postupných krokoch lúhovania a adsorpcie zlata. Proces lúhovania prebieha v nádrži a po ukončení procesu sa následne rmut privádza do ďalšej nádrže, kde prebieha adsorpcia. Naadsorbované aktívne uhlie na od zvyšku rmutu oddelí filtrovaním cez sito. V praxi prebieha adsorpcia v niekoľkých nádržiach za sebou, zvyčajne je to 5 až 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dsorpcia priamo pri procese lúhovania kyanidmi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(CIL – „carbon–in–leach“)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. V tomto spôsobe prebieha súčasne lúhovanie a adsorpcia. Je použiteľný pre rudy, ktoré obsahujú organický a anorganický uhlík a zároveň pomáha minimalizovať problém s „preg–robbing“. „Preg–robbing“ je jav, pri ktorom dochádza ku stratám iónov Au(CN)2</a:t>
            </a:r>
            <a:r>
              <a:rPr b="0" lang="sk-SK" sz="2000" spc="-1" strike="noStrike" baseline="30000">
                <a:solidFill>
                  <a:srgbClr val="000000"/>
                </a:solidFill>
                <a:latin typeface="Arial"/>
              </a:rPr>
              <a:t>−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z roztoku zložkami rud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dsorpcia v kolóne (CIC – „carbon–in–column“)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. Proces adsorpcie prebieha v sérii kolón a je výhodné spracovávať roztok, ktorý obsahuje 2 – 3 hmot. % tuhých lát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52280" y="533160"/>
            <a:ext cx="883944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 u="sng">
                <a:solidFill>
                  <a:srgbClr val="0000ff"/>
                </a:solidFill>
                <a:uFillTx/>
                <a:latin typeface="Arial"/>
              </a:rPr>
              <a:t>1. Chemizmus proce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u + 2 CN</a:t>
            </a:r>
            <a:r>
              <a:rPr b="0" lang="sk-SK" sz="2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= Au(CN)</a:t>
            </a:r>
            <a:r>
              <a:rPr b="0" lang="sk-SK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sk-SK" sz="2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g + 2 CN</a:t>
            </a:r>
            <a:r>
              <a:rPr b="0" lang="sk-SK" sz="2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= Ag(CN)</a:t>
            </a:r>
            <a:r>
              <a:rPr b="0" lang="sk-SK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sk-SK" sz="2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 u="sng">
                <a:solidFill>
                  <a:srgbClr val="000000"/>
                </a:solidFill>
                <a:uFillTx/>
                <a:latin typeface="Arial"/>
              </a:rPr>
              <a:t>Sumárne reakcie lúhovania A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 + 4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CN +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=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[Au(CN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 + 2 NaOH +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2 Au + 4 NaCN +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= 2 Na[Au(CN)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] + 2 Na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lato sa lúhuje </a:t>
            </a: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LEN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a prítomnosti oxidačného činidla !!!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Obrázok 3" descr=""/>
          <p:cNvPicPr/>
          <p:nvPr/>
        </p:nvPicPr>
        <p:blipFill>
          <a:blip r:embed="rId1"/>
          <a:stretch/>
        </p:blipFill>
        <p:spPr>
          <a:xfrm>
            <a:off x="833400" y="671400"/>
            <a:ext cx="7477200" cy="55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 u="sng">
                <a:solidFill>
                  <a:srgbClr val="0000ff"/>
                </a:solidFill>
                <a:uFillTx/>
                <a:latin typeface="Arial"/>
              </a:rPr>
              <a:t>4. Iónová vým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Sorpci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RCl + [Au(CN)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sk-SK" sz="2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= R[Au(CN)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] + Cl</a:t>
            </a:r>
            <a:r>
              <a:rPr b="1" lang="sk-SK" sz="2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 – pevný skelet meniča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sk-SK" sz="2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= forma menič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Elúci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do roztokov tiomočoviny, Na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ff"/>
                </a:solidFill>
                <a:uFillTx/>
                <a:latin typeface="Arial"/>
              </a:rPr>
              <a:t>5. Kvapalinová extrak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e + Au(CN)</a:t>
            </a:r>
            <a:r>
              <a:rPr b="1" lang="sk-SK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(aq) + nR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O org. + mH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 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1" lang="sk-SK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u(CN)</a:t>
            </a:r>
            <a:r>
              <a:rPr b="1" lang="sk-SK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. nR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O . mH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 or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extrakcia do anorganickej fá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4582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 u="sng">
                <a:solidFill>
                  <a:srgbClr val="0000ff"/>
                </a:solidFill>
                <a:uFillTx/>
                <a:latin typeface="Arial"/>
              </a:rPr>
              <a:t>6. Elektrolýza (vylučovac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Elektrolyt: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 – 10 g/l 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10 – 30 g/l KCN voľ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60 – 70 °C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 – 10 A/m</a:t>
            </a:r>
            <a:r>
              <a:rPr b="0" lang="sk-SK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H = 5 – 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Anóda: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nerezová oceľ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4 OH</a:t>
            </a:r>
            <a:r>
              <a:rPr b="0" lang="sk-SK" sz="2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= O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 + 4 e</a:t>
            </a:r>
            <a:r>
              <a:rPr b="0" lang="sk-SK" sz="2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Kató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 e</a:t>
            </a:r>
            <a:r>
              <a:rPr b="0" lang="sk-SK" sz="2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 = H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+ 2 OH</a:t>
            </a:r>
            <a:r>
              <a:rPr b="0" lang="sk-SK" sz="2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Au(CN)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= K</a:t>
            </a:r>
            <a:r>
              <a:rPr b="0" lang="sk-SK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+ Au(CN)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u(CN)</a:t>
            </a:r>
            <a:r>
              <a:rPr b="0" lang="sk-SK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= Au</a:t>
            </a:r>
            <a:r>
              <a:rPr b="0" lang="sk-SK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+ 2 CN</a:t>
            </a:r>
            <a:r>
              <a:rPr b="0" lang="sk-SK" sz="2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u</a:t>
            </a:r>
            <a:r>
              <a:rPr b="1" lang="sk-SK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1" lang="sk-SK" sz="2400" spc="-1" strike="noStrike" baseline="30000">
                <a:solidFill>
                  <a:srgbClr val="000000"/>
                </a:solidFill>
                <a:latin typeface="Arial"/>
              </a:rPr>
              <a:t>–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= Au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Ďakujem za pozornos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 u="sng">
                <a:solidFill>
                  <a:srgbClr val="000000"/>
                </a:solidFill>
                <a:uFillTx/>
                <a:latin typeface="Arial"/>
              </a:rPr>
              <a:t>Sumárne reakcie lúhovania A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 + 4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CN +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=  2 Na[Ag(CN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 + 2 NaOH +</a:t>
            </a: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gCl + 2 KCN = K[Ag(CN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] + 2 K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 + 4 KCN = 2 K[Ag(CN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] + 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xidáciou síry z minerálov vznikajú v procese príslušné kyselin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2000" spc="-1" strike="noStrike" baseline="30000">
                <a:solidFill>
                  <a:srgbClr val="000000"/>
                </a:solidFill>
                <a:latin typeface="Arial"/>
              </a:rPr>
              <a:t>2–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→ S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k-SK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–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 → S° → S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sk-SK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–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 → SO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sk-SK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–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 →SO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sk-SK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xidáciou kyanidov vznikaj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CN</a:t>
            </a:r>
            <a:r>
              <a:rPr b="0" lang="sk-SK" sz="1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: rodanid (tiokyaná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CNO</a:t>
            </a:r>
            <a:r>
              <a:rPr b="0" lang="sk-SK" sz="1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: kyana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yanidy sa odstraňujú oxidáci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86104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ff"/>
                </a:solidFill>
                <a:uFillTx/>
                <a:latin typeface="Arial"/>
              </a:rPr>
              <a:t>2. Termodynamické podmienky lúhovania Au, 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ff"/>
                </a:solidFill>
                <a:uFillTx/>
                <a:latin typeface="Arial"/>
              </a:rPr>
              <a:t>E – pH diagra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Lúhovanie zlata vo vodnom prostredí vyžaduje </a:t>
            </a:r>
            <a:r>
              <a:rPr b="1" lang="sk-SK" sz="1800" spc="-1" strike="noStrike">
                <a:solidFill>
                  <a:srgbClr val="ff0000"/>
                </a:solidFill>
                <a:latin typeface="Arial"/>
              </a:rPr>
              <a:t>oxidačný potenciál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1,4 V podľa reakc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u = Au</a:t>
            </a:r>
            <a:r>
              <a:rPr b="0" lang="sk-SK" sz="1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sk-SK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° = + 1,4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u = Au</a:t>
            </a:r>
            <a:r>
              <a:rPr b="0" lang="sk-SK" sz="18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sk-SK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° = + 1,88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 strieb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g = Ag</a:t>
            </a:r>
            <a:r>
              <a:rPr b="0" lang="sk-SK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sk-SK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° = +0,799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V prítomnosti </a:t>
            </a:r>
            <a:r>
              <a:rPr b="1" lang="sk-SK" sz="1800" spc="-1" strike="noStrike">
                <a:solidFill>
                  <a:srgbClr val="ff0000"/>
                </a:solidFill>
                <a:latin typeface="Arial"/>
              </a:rPr>
              <a:t>komplexotvorného reagentu CN</a:t>
            </a:r>
            <a:r>
              <a:rPr b="1" lang="sk-SK" sz="1800" spc="-1" strike="noStrike" baseline="30000">
                <a:solidFill>
                  <a:srgbClr val="ff0000"/>
                </a:solidFill>
                <a:latin typeface="Arial"/>
              </a:rPr>
              <a:t>–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sa oxidačný potenciál rozpúšťania Au i Ag </a:t>
            </a:r>
            <a:r>
              <a:rPr b="1" lang="sk-SK" sz="1800" spc="-1" strike="noStrike">
                <a:solidFill>
                  <a:srgbClr val="ff0000"/>
                </a:solidFill>
                <a:latin typeface="Arial"/>
              </a:rPr>
              <a:t>zníži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na – 0,6 V resp. – 0,31 V podľa reakci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u + 2 CN</a:t>
            </a:r>
            <a:r>
              <a:rPr b="0" lang="sk-SK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= Au(CN)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sk-SK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k-SK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0,6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g + 2 CN</a:t>
            </a:r>
            <a:r>
              <a:rPr b="0" lang="sk-SK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= Ag(CN)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sk-SK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k-SK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0,31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ko ukazujú E – pH diagramy daných systémo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Obrázok 3" descr=""/>
          <p:cNvPicPr/>
          <p:nvPr/>
        </p:nvPicPr>
        <p:blipFill>
          <a:blip r:embed="rId1"/>
          <a:stretch/>
        </p:blipFill>
        <p:spPr>
          <a:xfrm>
            <a:off x="4419720" y="2438280"/>
            <a:ext cx="4643280" cy="3527640"/>
          </a:xfrm>
          <a:prstGeom prst="rect">
            <a:avLst/>
          </a:prstGeom>
          <a:ln w="0">
            <a:noFill/>
          </a:ln>
        </p:spPr>
      </p:pic>
      <p:pic>
        <p:nvPicPr>
          <p:cNvPr id="49" name="Obrázok 4" descr=""/>
          <p:cNvPicPr/>
          <p:nvPr/>
        </p:nvPicPr>
        <p:blipFill>
          <a:blip r:embed="rId2"/>
          <a:stretch/>
        </p:blipFill>
        <p:spPr>
          <a:xfrm>
            <a:off x="0" y="2438280"/>
            <a:ext cx="4572000" cy="3473640"/>
          </a:xfrm>
          <a:prstGeom prst="rect">
            <a:avLst/>
          </a:prstGeom>
          <a:ln w="0">
            <a:noFill/>
          </a:ln>
        </p:spPr>
      </p:pic>
      <p:sp>
        <p:nvSpPr>
          <p:cNvPr id="50" name="Obdĺžnik 6"/>
          <p:cNvSpPr/>
          <p:nvPr/>
        </p:nvSpPr>
        <p:spPr>
          <a:xfrm>
            <a:off x="298440" y="609480"/>
            <a:ext cx="86868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u je </a:t>
            </a:r>
            <a:r>
              <a:rPr b="1" lang="sk-SK" sz="1800" spc="-1" strike="noStrike">
                <a:solidFill>
                  <a:srgbClr val="ff0000"/>
                </a:solidFill>
                <a:latin typeface="Arial"/>
              </a:rPr>
              <a:t>najušľachtilý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kov – </a:t>
            </a:r>
            <a:r>
              <a:rPr b="1" lang="sk-SK" sz="1800" spc="-1" strike="noStrike">
                <a:solidFill>
                  <a:srgbClr val="ff0000"/>
                </a:solidFill>
                <a:latin typeface="Arial"/>
              </a:rPr>
              <a:t>jeho oblasť stability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pokrýva </a:t>
            </a:r>
            <a:r>
              <a:rPr b="1" lang="sk-SK" sz="1800" spc="-1" strike="noStrike">
                <a:solidFill>
                  <a:srgbClr val="ff0000"/>
                </a:solidFill>
                <a:latin typeface="Arial"/>
              </a:rPr>
              <a:t>celú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oblasť stabilty H</a:t>
            </a:r>
            <a:r>
              <a:rPr b="1" lang="sk-SK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O v diagrame E – 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0000"/>
                </a:solidFill>
                <a:latin typeface="Arial"/>
              </a:rPr>
              <a:t>Au a Ag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sú veľmi ušľachtilé pri </a:t>
            </a:r>
            <a:r>
              <a:rPr b="1" lang="sk-SK" sz="1800" spc="-1" strike="noStrike">
                <a:solidFill>
                  <a:srgbClr val="ff0000"/>
                </a:solidFill>
                <a:latin typeface="Arial"/>
              </a:rPr>
              <a:t>nízkych 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Pri vysokých pH sú Au a Ag menej ušľachtilé – </a:t>
            </a:r>
            <a:r>
              <a:rPr b="1" i="1" lang="sk-SK" sz="1800" spc="-1" strike="noStrike">
                <a:solidFill>
                  <a:srgbClr val="000000"/>
                </a:solidFill>
                <a:latin typeface="Arial"/>
              </a:rPr>
              <a:t>alkalické kyanidové rozto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0000"/>
                </a:solidFill>
                <a:latin typeface="Arial"/>
              </a:rPr>
              <a:t>Ag je inertnejšie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v roztokoch kyanidových roztokov oproti 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Jednoduché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kyanidové soli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alkalických kovov sú vo vode rozpustné a iónizované a vytvárajú kovový katión a voľné kyanidové ió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NaCN = Na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CN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 závislosti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od pH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kyanidové ióny hydrolyzujú za tvorby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kyanovodíka HC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CN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H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 = HCN + OH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yanovodík je slabá kyselina, ktorá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neúplne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disociuje vo vode podľa reakc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HCN = H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+ CN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yanovodík má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vysoký tlak pár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už pri teplote okolia a spôsobuje straty kyanidu.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vysoko </a:t>
            </a:r>
            <a:r>
              <a:rPr b="1" lang="sk-SK" sz="2000" spc="-1" strike="noStrike" u="sng">
                <a:solidFill>
                  <a:srgbClr val="ff0000"/>
                </a:solidFill>
                <a:uFillTx/>
                <a:latin typeface="Arial"/>
              </a:rPr>
              <a:t>toxický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Rýchlosť </a:t>
            </a: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vyparovania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ávisí od pH prostredia a teplo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ff0000"/>
                </a:solidFill>
                <a:uFillTx/>
                <a:latin typeface="Arial"/>
              </a:rPr>
              <a:t>Minimálne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pH lúhovania v praxi je </a:t>
            </a:r>
            <a:r>
              <a:rPr b="1" lang="sk-SK" sz="2000" spc="-1" strike="noStrike">
                <a:solidFill>
                  <a:srgbClr val="ff0000"/>
                </a:solidFill>
                <a:latin typeface="Arial"/>
              </a:rPr>
              <a:t>nad 10 p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 u="sng">
                <a:solidFill>
                  <a:srgbClr val="0000ff"/>
                </a:solidFill>
                <a:uFillTx/>
                <a:latin typeface="Arial"/>
              </a:rPr>
              <a:t>3. Kinetika proce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Rýchlosť lúhovania zlata a striebra je ovplyvňovaná</a:t>
            </a: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centráciou kyanidu a kyslík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teploto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eľkosťou povrchu zŕn lúhovaného zlat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rýchlosťou miešani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hustota rmut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ítomnosť iónov sprievodných kovov v rozto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Arial"/>
              </a:rPr>
              <a:t>Vplyv koncentrácie kyanidu a kyslí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ýchlosť lúhovania zlata sa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vyšuje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so zvyšovaním koncentrácie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yanidu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do určitého maxima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(0,1 %)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, za ktorým sa rýchlosť mierne znižu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užívajú sa nízke koncentrácie: 0,01 – 0,25 % NaCN, KC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Obrázok 2" descr=""/>
          <p:cNvPicPr/>
          <p:nvPr/>
        </p:nvPicPr>
        <p:blipFill>
          <a:blip r:embed="rId1"/>
          <a:stretch/>
        </p:blipFill>
        <p:spPr>
          <a:xfrm>
            <a:off x="1905120" y="3124080"/>
            <a:ext cx="460512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ušan Oráč</dc:creator>
  <dc:description/>
  <dc:language>en-US</dc:language>
  <cp:lastModifiedBy>Dusan Orac</cp:lastModifiedBy>
  <dcterms:modified xsi:type="dcterms:W3CDTF">2022-10-12T05:44:08Z</dcterms:modified>
  <cp:revision>8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